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8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103-C6FE-4682-AFF9-6707301E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A4C-8705-417F-B3AF-41FD7CFC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B24-D64C-405B-BB56-98FC7D7E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5BD-F527-404B-9A6C-BFCEB97D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87E-4EA5-4BCD-8790-E715DC7E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E56-788F-4249-8596-40FFA8EE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BCE-57A3-4C43-8A3C-C7B826F3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FA8-C169-40D8-943D-8C33C0D4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31C-8E12-4185-81BC-DBA99728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292-5A28-4238-BD75-C74BF6AA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548-82F7-45A1-9926-06C16BE8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12F-ACDD-45B0-B549-9CCE1B9B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D10620_"/>
          <p:cNvPicPr/>
          <p:nvPr/>
        </p:nvPicPr>
        <p:blipFill>
          <a:blip r:embed="rId2"/>
          <a:stretch/>
        </p:blipFill>
        <p:spPr>
          <a:xfrm>
            <a:off x="372096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60ED-08E8-4C87-8A4C-B5013866DFAF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ucleusinc.com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pre61756_2001"/>
          <p:cNvPicPr/>
          <p:nvPr/>
        </p:nvPicPr>
        <p:blipFill>
          <a:blip r:embed="rId1"/>
          <a:srcRect l="0" t="0" r="0" b="18191"/>
          <a:stretch/>
        </p:blipFill>
        <p:spPr>
          <a:xfrm>
            <a:off x="1447920" y="0"/>
            <a:ext cx="6535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Anatom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9760" y="2104560"/>
            <a:ext cx="152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ibi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condylar eminen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dial and lateral condy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bial tuberosit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4" descr="tibia1"/>
          <p:cNvPicPr/>
          <p:nvPr/>
        </p:nvPicPr>
        <p:blipFill>
          <a:blip r:embed="rId1"/>
          <a:stretch/>
        </p:blipFill>
        <p:spPr>
          <a:xfrm>
            <a:off x="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152280" y="1012680"/>
            <a:ext cx="3962520" cy="528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800600" y="1036800"/>
            <a:ext cx="420048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tell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tendon- attaches to the anterior of the tibia. (tibial tuberosity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driceps tendon-attaches the quadriceps to the patella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12" descr="Provided by Nucleus Communications, Inc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2760" y="1676520"/>
            <a:ext cx="420372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Joints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biofemor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st joint in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tellofemor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contains the thickest cartilage found in the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erior Tibiofibula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y movement here is due to movement at the ank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Stabiliz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M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al Collateral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ral Collateral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erior Cruciate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erior Cruciate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” shape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r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” shape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kneetes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ruciate Liga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jor stabilizing ligaments in the kne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erior Cruciate Ligament (ACL)-prevents the tibia from sliding out in front of the femu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juries caused by hyperflexion, internal rotation, hyper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8" descr="fig11"/>
          <p:cNvPicPr/>
          <p:nvPr/>
        </p:nvPicPr>
        <p:blipFill>
          <a:blip r:embed="rId1"/>
          <a:stretch/>
        </p:blipFill>
        <p:spPr>
          <a:xfrm>
            <a:off x="228600" y="160020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neetes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L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s Two Bund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teromedi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ght in flexion and 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terolater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ght in 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gament is most lax between 30 – 60 degrees flex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Joi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most poorly constructed joint in the body.  Femur round, tibia flat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ised of four bones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bi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bu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Picture 5" descr="OrangeRndDiningTbl3QF4_lg"/>
          <p:cNvPicPr/>
          <p:nvPr/>
        </p:nvPicPr>
        <p:blipFill>
          <a:blip r:embed="rId1"/>
          <a:stretch/>
        </p:blipFill>
        <p:spPr>
          <a:xfrm>
            <a:off x="5867280" y="4800600"/>
            <a:ext cx="2762280" cy="140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Orange"/>
          <p:cNvPicPr/>
          <p:nvPr/>
        </p:nvPicPr>
        <p:blipFill>
          <a:blip r:embed="rId2"/>
          <a:stretch/>
        </p:blipFill>
        <p:spPr>
          <a:xfrm>
            <a:off x="6324480" y="3276720"/>
            <a:ext cx="1981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sterior Cruciate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s posterior translation of the tibia on the 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ists hyperextension of kne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uns from posterior tibia to anterior 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posterior-cruciate-ligament-pcl"/>
          <p:cNvPicPr/>
          <p:nvPr/>
        </p:nvPicPr>
        <p:blipFill>
          <a:blip r:embed="rId1"/>
          <a:stretch/>
        </p:blipFill>
        <p:spPr>
          <a:xfrm>
            <a:off x="480060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CL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bers are tightest around 30 degrees flex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terolateral fibers are the last to become tigh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wo times stronger than AC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Collateral Ligament (MCL)- connect the tibia and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force from the lateral side could cause a tea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gus fo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15" descr="acl"/>
          <p:cNvPicPr/>
          <p:nvPr/>
        </p:nvPicPr>
        <p:blipFill>
          <a:blip r:embed="rId1"/>
          <a:stretch/>
        </p:blipFill>
        <p:spPr>
          <a:xfrm>
            <a:off x="320760" y="1752480"/>
            <a:ext cx="4174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dial 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wo lay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ep layer is actually a thickening of the joint capsule that blends into the medi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ficial layer is what we view as the MC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medial-collateral-ligament-mcl"/>
          <p:cNvPicPr/>
          <p:nvPr/>
        </p:nvPicPr>
        <p:blipFill>
          <a:blip r:embed="rId1"/>
          <a:stretch/>
        </p:blipFill>
        <p:spPr>
          <a:xfrm>
            <a:off x="5315040" y="19051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teral Collateral Ligament (LCL)-  connect the fibula to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force from the medial side can cause a tear of the LC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rus fo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8" descr="acl_10"/>
          <p:cNvPicPr/>
          <p:nvPr/>
        </p:nvPicPr>
        <p:blipFill>
          <a:blip r:embed="rId1"/>
          <a:stretch/>
        </p:blipFill>
        <p:spPr>
          <a:xfrm>
            <a:off x="0" y="1981080"/>
            <a:ext cx="44197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teral 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ttaches to head of fibu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s excessive varus and IR fo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ghtest in extension, loosest after 30 degrees flex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lateral-collateral-ligament-lcl"/>
          <p:cNvPicPr/>
          <p:nvPr/>
        </p:nvPicPr>
        <p:blipFill>
          <a:blip r:embed="rId1"/>
          <a:stretch/>
        </p:blipFill>
        <p:spPr>
          <a:xfrm>
            <a:off x="5257800" y="1676520"/>
            <a:ext cx="3486240" cy="4647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rtilage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ticulate Cartilage-covers the moving parts of the kne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ronic damage to articulate cartilage leads to arthriti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9" descr="menisucs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topview kneet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rtilag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niscus- half moon shaped cartilage lying between the knee join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7" descr="injuries-lower-knee-meniscus"/>
          <p:cNvPicPr/>
          <p:nvPr/>
        </p:nvPicPr>
        <p:blipFill>
          <a:blip r:embed="rId1"/>
          <a:stretch/>
        </p:blipFill>
        <p:spPr>
          <a:xfrm>
            <a:off x="228600" y="1752480"/>
            <a:ext cx="434340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TICULAR DIS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Menisc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teral Menisc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Birds_Eye"/>
          <p:cNvPicPr/>
          <p:nvPr/>
        </p:nvPicPr>
        <p:blipFill>
          <a:blip r:embed="rId1"/>
          <a:stretch/>
        </p:blipFill>
        <p:spPr>
          <a:xfrm>
            <a:off x="304920" y="3352680"/>
            <a:ext cx="3809880" cy="31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Condyles- distal ends of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st bone in the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7" descr="knee_front_bones"/>
          <p:cNvPicPr/>
          <p:nvPr/>
        </p:nvPicPr>
        <p:blipFill>
          <a:blip r:embed="rId1"/>
          <a:stretch/>
        </p:blipFill>
        <p:spPr>
          <a:xfrm>
            <a:off x="304920" y="1447920"/>
            <a:ext cx="41907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niscal Blood Suppl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ch Meniscus has 3 zon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er 1/3:  good blood supp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/White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dle 1/3:  minimal blood supp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1/3:   avascular (no blood supp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lications for injury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niscal Blood Suppl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3" descr="pre61756_2003"/>
          <p:cNvPicPr/>
          <p:nvPr/>
        </p:nvPicPr>
        <p:blipFill>
          <a:blip r:embed="rId1"/>
          <a:srcRect l="0" t="0" r="0" b="55558"/>
          <a:stretch/>
        </p:blipFill>
        <p:spPr>
          <a:xfrm>
            <a:off x="914400" y="2421000"/>
            <a:ext cx="74674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KNee Joint with Primary Ligments"/>
          <p:cNvPicPr/>
          <p:nvPr/>
        </p:nvPicPr>
        <p:blipFill>
          <a:blip r:embed="rId1"/>
          <a:stretch/>
        </p:blipFill>
        <p:spPr>
          <a:xfrm>
            <a:off x="0" y="0"/>
            <a:ext cx="8915400" cy="68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good knee 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4" descr="femur 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91320" y="6091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. Tuberc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epicondy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condy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ondylar foss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fossa (not shown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4" descr="fer"/>
          <p:cNvPicPr/>
          <p:nvPr/>
        </p:nvPicPr>
        <p:blipFill>
          <a:blip r:embed="rId1"/>
          <a:stretch/>
        </p:blipFill>
        <p:spPr>
          <a:xfrm>
            <a:off x="0" y="0"/>
            <a:ext cx="3032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ibia and Fibul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4" descr="fib tib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ibfib knee te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4" descr="detailed tib fib"/>
          <p:cNvPicPr/>
          <p:nvPr/>
        </p:nvPicPr>
        <p:blipFill>
          <a:blip r:embed="rId1"/>
          <a:stretch/>
        </p:blipFill>
        <p:spPr>
          <a:xfrm>
            <a:off x="0" y="0"/>
            <a:ext cx="792468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Fibula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ex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ck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teral Maelleolu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4" descr="fibula"/>
          <p:cNvPicPr/>
          <p:nvPr/>
        </p:nvPicPr>
        <p:blipFill>
          <a:blip r:embed="rId1"/>
          <a:stretch/>
        </p:blipFill>
        <p:spPr>
          <a:xfrm>
            <a:off x="0" y="0"/>
            <a:ext cx="3052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23:52:20Z</dcterms:created>
  <dc:creator>lindseyboutilier</dc:creator>
  <dc:description/>
  <dc:language>en-US</dc:language>
  <cp:lastModifiedBy>Andrew S. Hansell</cp:lastModifiedBy>
  <dcterms:modified xsi:type="dcterms:W3CDTF">2014-02-17T15:16:28Z</dcterms:modified>
  <cp:revision>40</cp:revision>
  <dc:subject/>
  <dc:title>Knee Anatomy</dc:title>
</cp:coreProperties>
</file>