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61A-1263-4E2B-9ABC-D5B63A8C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884-8C9A-47D0-A7E3-E94D745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990-BC90-4013-AC18-71D28AE2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C7D-78A3-4762-A984-9A8B5D7C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A02-2D6A-4460-8051-10588CB3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771-94A1-46F7-97F8-E32B15D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89F-8960-4468-83D8-252F57D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C84-64BF-469D-B146-DC173FD8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559-EFDF-4E04-99D6-FE5E2A97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D73-11E6-43D8-B2A7-1320341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37C-DC57-4756-B770-2C53A6B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828-AAA9-44A0-9242-B378AFE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D10620_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DE4B-7431-4841-943D-62FBCD9DDFF4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ucleusinc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pre61756_2001"/>
          <p:cNvPicPr/>
          <p:nvPr/>
        </p:nvPicPr>
        <p:blipFill>
          <a:blip r:embed="rId1"/>
          <a:srcRect l="0" t="0" r="0" b="18191"/>
          <a:stretch/>
        </p:blipFill>
        <p:spPr>
          <a:xfrm>
            <a:off x="1447920" y="0"/>
            <a:ext cx="653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Anatom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9760" y="2104560"/>
            <a:ext cx="152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condylar emin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al tubero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tibia1"/>
          <p:cNvPicPr/>
          <p:nvPr/>
        </p:nvPicPr>
        <p:blipFill>
          <a:blip r:embed="rId1"/>
          <a:stretch/>
        </p:blipFill>
        <p:spPr>
          <a:xfrm>
            <a:off x="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152280" y="1012680"/>
            <a:ext cx="3962520" cy="528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00600" y="1036800"/>
            <a:ext cx="4200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tendon- attaches to the anterior of the tibia. (tibial tuberosit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iceps tendon-attaches the quadriceps to the patell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2" descr="Provided by Nucleus Communications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676520"/>
            <a:ext cx="42037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Joints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joint in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ell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contains the thickest cartilage found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erior Tibiofibul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y movement here is due to movement at the ank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Stabiliz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ruciate Liga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stabilizing ligaments in the kn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 (ACL)-prevents the tibia from sliding out in front of the fem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uries caused by hyperflexion, internal rotation, hyper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fig11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Two Bund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teromed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flexion and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gament is most lax between 30 – 6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Joi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ost poorly constructed joint in the body.  Femur round, tibia fla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ised of four bone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5" descr="OrangeRndDiningTbl3QF4_lg"/>
          <p:cNvPicPr/>
          <p:nvPr/>
        </p:nvPicPr>
        <p:blipFill>
          <a:blip r:embed="rId1"/>
          <a:stretch/>
        </p:blipFill>
        <p:spPr>
          <a:xfrm>
            <a:off x="5867280" y="4800600"/>
            <a:ext cx="276228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range"/>
          <p:cNvPicPr/>
          <p:nvPr/>
        </p:nvPicPr>
        <p:blipFill>
          <a:blip r:embed="rId2"/>
          <a:stretch/>
        </p:blipFill>
        <p:spPr>
          <a:xfrm>
            <a:off x="6324480" y="3276720"/>
            <a:ext cx="1981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posterior translation of the tibia on the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s hyperextension of kn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s from posterior tibia to anterior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posterior-cruciate-ligament-pcl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bers are tightest around 3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 fibers are the last to become t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times stronger than AC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Collateral Ligament (MCL)- connect the tibia and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lateral side could cause a tea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g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5" descr="acl"/>
          <p:cNvPicPr/>
          <p:nvPr/>
        </p:nvPicPr>
        <p:blipFill>
          <a:blip r:embed="rId1"/>
          <a:stretch/>
        </p:blipFill>
        <p:spPr>
          <a:xfrm>
            <a:off x="320760" y="1752480"/>
            <a:ext cx="4174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ep layer is actually a thickening of the joint capsule that blends into the 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ficial layer is what we view as the M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medial-collateral-ligament-mcl"/>
          <p:cNvPicPr/>
          <p:nvPr/>
        </p:nvPicPr>
        <p:blipFill>
          <a:blip r:embed="rId1"/>
          <a:stretch/>
        </p:blipFill>
        <p:spPr>
          <a:xfrm>
            <a:off x="5315040" y="1905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Collateral Ligament (LCL)-  connect the fibula to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medial side can cause a tear of the LC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8" descr="acl_10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hes to head of 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excessive varus and IR fo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est in extension, loosest after 30 degrees flex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lateral-collateral-ligament-lcl"/>
          <p:cNvPicPr/>
          <p:nvPr/>
        </p:nvPicPr>
        <p:blipFill>
          <a:blip r:embed="rId1"/>
          <a:stretch/>
        </p:blipFill>
        <p:spPr>
          <a:xfrm>
            <a:off x="5257800" y="16765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ticulate Cartilage-covers the moving parts of the kne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nic damage to articulate cartilage leads to arthriti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menisucs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topview knee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niscus- half moon shaped cartilage lying between the knee j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injuries-lower-knee-meniscus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TICULAR DIS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Birds_Eye"/>
          <p:cNvPicPr/>
          <p:nvPr/>
        </p:nvPicPr>
        <p:blipFill>
          <a:blip r:embed="rId1"/>
          <a:stretch/>
        </p:blipFill>
        <p:spPr>
          <a:xfrm>
            <a:off x="304920" y="3352680"/>
            <a:ext cx="380988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- distal ends of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bone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7" descr="knee_front_bones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Meniscus has 3 zon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er 1/3:  good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/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dle 1/3:  minimal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1/3:   avascular (no blood supp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ications for injury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pre61756_2003"/>
          <p:cNvPicPr/>
          <p:nvPr/>
        </p:nvPicPr>
        <p:blipFill>
          <a:blip r:embed="rId1"/>
          <a:srcRect l="0" t="0" r="0" b="55558"/>
          <a:stretch/>
        </p:blipFill>
        <p:spPr>
          <a:xfrm>
            <a:off x="914400" y="2421000"/>
            <a:ext cx="7467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KNee Joint with Primary Ligments"/>
          <p:cNvPicPr/>
          <p:nvPr/>
        </p:nvPicPr>
        <p:blipFill>
          <a:blip r:embed="rId1"/>
          <a:stretch/>
        </p:blipFill>
        <p:spPr>
          <a:xfrm>
            <a:off x="0" y="0"/>
            <a:ext cx="89154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good kne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femur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. Tuber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epi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ondylar foss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fossa (not show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fer"/>
          <p:cNvPicPr/>
          <p:nvPr/>
        </p:nvPicPr>
        <p:blipFill>
          <a:blip r:embed="rId1"/>
          <a:stretch/>
        </p:blipFill>
        <p:spPr>
          <a:xfrm>
            <a:off x="0" y="0"/>
            <a:ext cx="303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 and Fibu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fib tib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ibfib knee t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detailed tib fib"/>
          <p:cNvPicPr/>
          <p:nvPr/>
        </p:nvPicPr>
        <p:blipFill>
          <a:blip r:embed="rId1"/>
          <a:stretch/>
        </p:blipFill>
        <p:spPr>
          <a:xfrm>
            <a:off x="0" y="0"/>
            <a:ext cx="792468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ibula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e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c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ral Maelleol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fibula"/>
          <p:cNvPicPr/>
          <p:nvPr/>
        </p:nvPicPr>
        <p:blipFill>
          <a:blip r:embed="rId1"/>
          <a:stretch/>
        </p:blipFill>
        <p:spPr>
          <a:xfrm>
            <a:off x="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52:20Z</dcterms:created>
  <dc:creator>lindseyboutilier</dc:creator>
  <dc:description/>
  <dc:language>en-US</dc:language>
  <cp:lastModifiedBy>Andrew S. Hansell</cp:lastModifiedBy>
  <dcterms:modified xsi:type="dcterms:W3CDTF">2014-02-17T15:16:28Z</dcterms:modified>
  <cp:revision>40</cp:revision>
  <dc:subject/>
  <dc:title>Knee Anatomy</dc:title>
</cp:coreProperties>
</file>