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4F6-3E77-44E8-B411-E19E1D07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ovea_capitis_femoris" TargetMode="External"/><Relationship Id="rId2" Type="http://schemas.openxmlformats.org/officeDocument/2006/relationships/slide" Target="../slides/slide28.xml"/><Relationship Id="rId3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2287-8054-4310-B9E9-5B2E6892531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 of the head of the fem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lso known a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tere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s a triangular, somewhat flattened band implanted by its apex into the antero-superior part of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ovea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its base is attached by two bands, one into either side of the acetabular notch, and between these bony attachments it blends with the transverse liga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ensheathed by the synovial membrane, and varies greatly in strength in different subjects; occasionally only the  exists, and in rare cases even this is ab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ament is made tense when the thigh is semiflexed and the limb then abducted or rotated outward; it is, on the other hand, relaxed when the limb is addu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, however, but little influence as a ligament past childhood[1][2] according to some references. According to the Encyclopedia Britannica, the ligament gives the femur a stabilizing strength which, as in the orangatan, some animals lack[3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6D9-B00F-4B45-A3B7-A8611E84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963-1E09-4B0A-9148-1ABD817C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253-AD12-43B0-99DF-B6E1C1F6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3A6-8C58-43DC-99FB-0AEC17EF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653E-14D2-4BEA-8F7D-64F9A599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3AF8-163E-4FE4-A141-834F0074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4F53-B419-4CE7-B086-315286BC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046C-F7C3-4C26-B0F3-221122AF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5B88-1EF5-449F-979B-D0D12017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427D-E28A-4482-8AA2-12BF737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CD7C-28D3-4AFA-83A8-2E7E8B03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96B-8E98-467B-9782-9AE67B05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0FBF-5423-4C13-989B-BB46333F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6470-D842-4ED6-8BAC-D50DD0F6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0FB1-DDD4-4587-A1D5-B79D13B2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F39A-6C73-4DA9-87E5-A5DF914F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6A3E-99B5-41B2-AE9A-17D3F2D0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8A0-4804-4B53-BFFC-1BA1D9D5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DE2-9748-4FB8-8C36-C71A1A24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635-3712-4EC7-A265-364D1963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040-1B6D-4E1F-BB6D-D1A6005D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6C9-62BD-4E68-87BD-6E9242BA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3D9-22D9-4079-BA46-70D51318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767-AA8F-4833-B801-1FD97570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8840-DE92-465B-92A7-A9BC79B61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12B4-44F7-4150-AE08-BBD27B05ACE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btfun.com/files/Hip_Dani_X-ray_03Feb04_1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ip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lvic Gird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etabul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bones fused toget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luteal Li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reater Sciatic Not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2116080"/>
            <a:ext cx="4087800" cy="4135320"/>
          </a:xfrm>
          <a:prstGeom prst="rect">
            <a:avLst/>
          </a:prstGeom>
          <a:ln w="0">
            <a:noFill/>
          </a:ln>
        </p:spPr>
      </p:pic>
      <p:sp>
        <p:nvSpPr>
          <p:cNvPr id="150" name="Line 7"/>
          <p:cNvSpPr/>
          <p:nvPr/>
        </p:nvSpPr>
        <p:spPr>
          <a:xfrm>
            <a:off x="1219320" y="4724280"/>
            <a:ext cx="27432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09480" y="6324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ter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0" y="213336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liac Fos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6" descr="hip pelvic bone lateral view"/>
          <p:cNvPicPr/>
          <p:nvPr/>
        </p:nvPicPr>
        <p:blipFill>
          <a:blip r:embed="rId1"/>
          <a:stretch/>
        </p:blipFill>
        <p:spPr>
          <a:xfrm>
            <a:off x="135000" y="2127240"/>
            <a:ext cx="4371840" cy="4111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304920" y="6324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di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809880" y="3276720"/>
            <a:ext cx="45720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sp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or Sciatic Not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Picture 5" descr="hip pelvic bone lateral view1"/>
          <p:cNvPicPr/>
          <p:nvPr/>
        </p:nvPicPr>
        <p:blipFill>
          <a:blip r:embed="rId1"/>
          <a:stretch/>
        </p:blipFill>
        <p:spPr>
          <a:xfrm>
            <a:off x="4343400" y="1905120"/>
            <a:ext cx="4495680" cy="428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5562720" y="4648320"/>
            <a:ext cx="13716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7010280" y="4648320"/>
            <a:ext cx="0" cy="13716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 symph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1828800"/>
            <a:ext cx="4372200" cy="442260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819520" y="4648320"/>
            <a:ext cx="0" cy="129528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819520" y="4572000"/>
            <a:ext cx="11430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61756_2111"/>
          <p:cNvPicPr/>
          <p:nvPr/>
        </p:nvPicPr>
        <p:blipFill>
          <a:blip r:embed="rId1"/>
          <a:stretch/>
        </p:blipFill>
        <p:spPr>
          <a:xfrm>
            <a:off x="0" y="0"/>
            <a:ext cx="66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pre61756_2110"/>
          <p:cNvPicPr/>
          <p:nvPr/>
        </p:nvPicPr>
        <p:blipFill>
          <a:blip r:embed="rId1"/>
          <a:stretch/>
        </p:blipFill>
        <p:spPr>
          <a:xfrm>
            <a:off x="0" y="0"/>
            <a:ext cx="8001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quiz h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hip"/>
          <p:cNvPicPr/>
          <p:nvPr/>
        </p:nvPicPr>
        <p:blipFill>
          <a:blip r:embed="rId1"/>
          <a:stretch/>
        </p:blipFill>
        <p:spPr>
          <a:xfrm>
            <a:off x="1295280" y="1066680"/>
            <a:ext cx="6934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Pelvis-anterior"/>
          <p:cNvPicPr/>
          <p:nvPr/>
        </p:nvPicPr>
        <p:blipFill>
          <a:blip r:embed="rId1"/>
          <a:stretch/>
        </p:blipFill>
        <p:spPr>
          <a:xfrm>
            <a:off x="1066680" y="974880"/>
            <a:ext cx="78487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elvis-posterior"/>
          <p:cNvPicPr/>
          <p:nvPr/>
        </p:nvPicPr>
        <p:blipFill>
          <a:blip r:embed="rId1"/>
          <a:stretch/>
        </p:blipFill>
        <p:spPr>
          <a:xfrm>
            <a:off x="609480" y="1031760"/>
            <a:ext cx="77724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35000" y="888840"/>
            <a:ext cx="8896320" cy="53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6" descr="Hip_Dani_X-ray_03Feb04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46080"/>
            <a:ext cx="89758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pubic dis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6" descr="hip pubic symphysis"/>
          <p:cNvPicPr/>
          <p:nvPr/>
        </p:nvPicPr>
        <p:blipFill>
          <a:blip r:embed="rId1"/>
          <a:stretch/>
        </p:blipFill>
        <p:spPr>
          <a:xfrm>
            <a:off x="5294160" y="2116080"/>
            <a:ext cx="3102120" cy="4135320"/>
          </a:xfrm>
          <a:prstGeom prst="rect">
            <a:avLst/>
          </a:prstGeom>
          <a:ln w="0">
            <a:noFill/>
          </a:ln>
        </p:spPr>
      </p:pic>
      <p:sp>
        <p:nvSpPr>
          <p:cNvPr id="176" name="Oval 7"/>
          <p:cNvSpPr/>
          <p:nvPr/>
        </p:nvSpPr>
        <p:spPr>
          <a:xfrm>
            <a:off x="6477120" y="4800600"/>
            <a:ext cx="838080" cy="8380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Picture 9" descr="hip pubic symphysis"/>
          <p:cNvPicPr/>
          <p:nvPr/>
        </p:nvPicPr>
        <p:blipFill>
          <a:blip r:embed="rId1"/>
          <a:stretch/>
        </p:blipFill>
        <p:spPr>
          <a:xfrm>
            <a:off x="685800" y="2971800"/>
            <a:ext cx="2895480" cy="3886200"/>
          </a:xfrm>
          <a:prstGeom prst="rect">
            <a:avLst/>
          </a:prstGeom>
          <a:ln w="0">
            <a:noFill/>
          </a:ln>
        </p:spPr>
      </p:pic>
      <p:sp>
        <p:nvSpPr>
          <p:cNvPr id="180" name="Oval 10"/>
          <p:cNvSpPr/>
          <p:nvPr/>
        </p:nvSpPr>
        <p:spPr>
          <a:xfrm>
            <a:off x="1447920" y="4495680"/>
            <a:ext cx="1447560" cy="9907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13" descr="p_sacroiliac_anatomy"/>
          <p:cNvPicPr/>
          <p:nvPr/>
        </p:nvPicPr>
        <p:blipFill>
          <a:blip r:embed="rId2"/>
          <a:stretch/>
        </p:blipFill>
        <p:spPr>
          <a:xfrm>
            <a:off x="4191120" y="1981080"/>
            <a:ext cx="47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8480" y="3049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Picture 9" descr="hip ball and socket xsect"/>
          <p:cNvPicPr/>
          <p:nvPr/>
        </p:nvPicPr>
        <p:blipFill>
          <a:blip r:embed="rId1"/>
          <a:stretch/>
        </p:blipFill>
        <p:spPr>
          <a:xfrm>
            <a:off x="4875120" y="2116080"/>
            <a:ext cx="3938760" cy="413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acetabularlig"/>
          <p:cNvPicPr/>
          <p:nvPr/>
        </p:nvPicPr>
        <p:blipFill>
          <a:blip r:embed="rId2"/>
          <a:stretch/>
        </p:blipFill>
        <p:spPr>
          <a:xfrm>
            <a:off x="45720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3" descr="384hipj2"/>
          <p:cNvPicPr/>
          <p:nvPr/>
        </p:nvPicPr>
        <p:blipFill>
          <a:blip r:embed="rId1"/>
          <a:stretch/>
        </p:blipFill>
        <p:spPr>
          <a:xfrm>
            <a:off x="1752480" y="1484280"/>
            <a:ext cx="5791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pre61756_2112"/>
          <p:cNvPicPr/>
          <p:nvPr/>
        </p:nvPicPr>
        <p:blipFill>
          <a:blip r:embed="rId1"/>
          <a:stretch/>
        </p:blipFill>
        <p:spPr>
          <a:xfrm>
            <a:off x="2743200" y="44280"/>
            <a:ext cx="33526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848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3" descr="384hipj1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Picture 3" descr="384hipj3"/>
          <p:cNvPicPr/>
          <p:nvPr/>
        </p:nvPicPr>
        <p:blipFill>
          <a:blip r:embed="rId1"/>
          <a:stretch/>
        </p:blipFill>
        <p:spPr>
          <a:xfrm>
            <a:off x="1143000" y="1425600"/>
            <a:ext cx="662940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5" name="Picture 7" descr="hip ishiofemoral ligament"/>
          <p:cNvPicPr/>
          <p:nvPr/>
        </p:nvPicPr>
        <p:blipFill>
          <a:blip r:embed="rId1"/>
          <a:stretch/>
        </p:blipFill>
        <p:spPr>
          <a:xfrm>
            <a:off x="135000" y="2425680"/>
            <a:ext cx="43718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11" descr="ligamentum teres"/>
          <p:cNvPicPr/>
          <p:nvPr/>
        </p:nvPicPr>
        <p:blipFill>
          <a:blip r:embed="rId1"/>
          <a:stretch/>
        </p:blipFill>
        <p:spPr>
          <a:xfrm>
            <a:off x="135000" y="2627280"/>
            <a:ext cx="43718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quiz pelvis"/>
          <p:cNvPicPr/>
          <p:nvPr/>
        </p:nvPicPr>
        <p:blipFill>
          <a:blip r:embed="rId1"/>
          <a:stretch/>
        </p:blipFill>
        <p:spPr>
          <a:xfrm>
            <a:off x="-2743200" y="-274680"/>
            <a:ext cx="1188720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m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H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Ne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trochanteri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lute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6" descr="hip proximal femur"/>
          <p:cNvPicPr/>
          <p:nvPr/>
        </p:nvPicPr>
        <p:blipFill>
          <a:blip r:embed="rId1"/>
          <a:stretch/>
        </p:blipFill>
        <p:spPr>
          <a:xfrm>
            <a:off x="228600" y="2819520"/>
            <a:ext cx="4741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Femu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3" descr="384fem1a"/>
          <p:cNvPicPr/>
          <p:nvPr/>
        </p:nvPicPr>
        <p:blipFill>
          <a:blip r:embed="rId1"/>
          <a:stretch/>
        </p:blipFill>
        <p:spPr>
          <a:xfrm>
            <a:off x="0" y="202248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84fem2p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re61756_2101"/>
          <p:cNvPicPr/>
          <p:nvPr/>
        </p:nvPicPr>
        <p:blipFill>
          <a:blip r:embed="rId1"/>
          <a:stretch/>
        </p:blipFill>
        <p:spPr>
          <a:xfrm>
            <a:off x="0" y="0"/>
            <a:ext cx="67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6" descr="Femur-an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Femur-pos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Hip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3" descr="cox1l"/>
          <p:cNvPicPr/>
          <p:nvPr/>
        </p:nvPicPr>
        <p:blipFill>
          <a:blip r:embed="rId1"/>
          <a:stretch/>
        </p:blipFill>
        <p:spPr>
          <a:xfrm>
            <a:off x="85680" y="2590920"/>
            <a:ext cx="4486320" cy="426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ox2"/>
          <p:cNvPicPr/>
          <p:nvPr/>
        </p:nvPicPr>
        <p:blipFill>
          <a:blip r:embed="rId2"/>
          <a:stretch/>
        </p:blipFill>
        <p:spPr>
          <a:xfrm>
            <a:off x="4572000" y="259092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9:09:44Z</dcterms:created>
  <dc:creator>Information Resources Rowan U</dc:creator>
  <dc:description/>
  <dc:language>en-US</dc:language>
  <cp:lastModifiedBy>ASHANSEL</cp:lastModifiedBy>
  <dcterms:modified xsi:type="dcterms:W3CDTF">2010-03-16T10:43:22Z</dcterms:modified>
  <cp:revision>21</cp:revision>
  <dc:subject/>
  <dc:title>Hip Anatomy</dc:title>
</cp:coreProperties>
</file>