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2.jpeg" ContentType="image/jpeg"/>
  <Override PartName="/ppt/media/image4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2AB-371A-48D9-8E88-48C708C0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EA59-DB60-4979-B8EE-7119ADF7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B4C-C5B4-468B-813B-FC184860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388-1D3A-4AD4-860C-0EF43B43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E22-8908-4A25-92AB-A726588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93B-FDD4-459D-9C01-F66C1C9C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659-3D7B-41DB-8F65-6ED5696F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AC6A-2D65-438B-B492-2DA7D3B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B26A-EF81-40D4-A3D0-AFF05D38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3167-7697-4E3E-9BF3-9B403A0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0F2-A467-44B0-845F-68C13274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580D-87F8-4B45-9E48-3B53654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5DEA-1350-4980-BC5C-D21C8B6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94F7-A342-485F-B3CF-B1B4E9C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56A-9E55-4838-8082-49F222AE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A0D-030F-4A0F-9CB0-E6E4BE6A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4AD-B5B6-466E-A11D-66BC5B31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322D-5C68-46BF-8AC7-91BFE04F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BAF-D965-4788-A64F-32B3EE0F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9390-0B42-4C40-82CD-4818CF45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D8F-6F66-45E6-9C74-A7D3578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AAC-B42F-45CD-88D1-93C464F0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2AA-DB23-4181-B7C3-2F516767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5C9-50E2-4F6F-A3F3-D865DFE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E45-502D-4444-B781-09923C2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70D-A74A-4F37-826E-4E8D318A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0F9-1C8D-4665-B3E1-8C9B440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8898-6915-43BD-9CE9-555FDBA47E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9D0-790F-4FAB-B013-DE32F904A4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edited lung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5" name="▶ Anatomical Tutorial During Trans-Nasal Endoscopy.mp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0"/>
            <a:ext cx="8534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wo large passageways that lead from the trachea to your lungs (one for each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bronchi are further subdivided into bronch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eventually, the further subdivisions lead to tiny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lveoli are in clusters, like gr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apillaries surrounding each alveolus is 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hange of gases with the blood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uscle that causes you to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iccups are involuntary contrac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676520" y="1179360"/>
            <a:ext cx="5486400" cy="537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295280" y="1166760"/>
            <a:ext cx="6858000" cy="535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63996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81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= gas exchange --  Occurs at the levels of the lungs and tissues (external respiration) and cell (internal or cellular respira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spi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ulmonary ventilation: movement of air in and ou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lu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 in the alveo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transport in the blo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s between blood and t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igure_16_01_l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3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spiratory airway: Alveoli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ar wall is formed by simple squamous epithelium = type I cells (SSE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ory membrane: membrane separating alveolus from blood capill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urface area from the numerous alveoli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ter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ce of elastic fibers between 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igure_16_05_ab_l"/>
          <p:cNvPicPr/>
          <p:nvPr/>
        </p:nvPicPr>
        <p:blipFill>
          <a:blip r:embed="rId1"/>
          <a:stretch/>
        </p:blipFill>
        <p:spPr>
          <a:xfrm>
            <a:off x="457200" y="941400"/>
            <a:ext cx="8305920" cy="353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way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4" descr="figure_16_03_l"/>
          <p:cNvPicPr/>
          <p:nvPr/>
        </p:nvPicPr>
        <p:blipFill>
          <a:blip r:embed="rId1"/>
          <a:stretch/>
        </p:blipFill>
        <p:spPr>
          <a:xfrm>
            <a:off x="3541680" y="990720"/>
            <a:ext cx="560232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124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 airw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ose to pharyn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air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ducting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ynx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ronchi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piratory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lood supply to the lung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igure_16_06_l"/>
          <p:cNvPicPr/>
          <p:nvPr/>
        </p:nvPicPr>
        <p:blipFill>
          <a:blip r:embed="rId1"/>
          <a:stretch/>
        </p:blipFill>
        <p:spPr>
          <a:xfrm>
            <a:off x="1066680" y="762120"/>
            <a:ext cx="7543800" cy="36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igure_16_05d_l"/>
          <p:cNvPicPr/>
          <p:nvPr/>
        </p:nvPicPr>
        <p:blipFill>
          <a:blip r:embed="rId2"/>
          <a:stretch/>
        </p:blipFill>
        <p:spPr>
          <a:xfrm>
            <a:off x="5486400" y="4287960"/>
            <a:ext cx="2813040" cy="257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99960"/>
            <a:ext cx="876312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2  The Respiratory Epithelium of the Nasal Cavity and Conducting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58000" cy="540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uman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3" descr="respiratorydetail"/>
          <p:cNvPicPr/>
          <p:nvPr/>
        </p:nvPicPr>
        <p:blipFill>
          <a:blip r:embed="rId1"/>
          <a:stretch/>
        </p:blipFill>
        <p:spPr>
          <a:xfrm>
            <a:off x="2209680" y="1600200"/>
            <a:ext cx="4857840" cy="491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series of filtra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s particles and pathog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mucus that bathes exposed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ep debris trapped in mucus toward the pharynx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mucus escal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ilia"/>
          <p:cNvPicPr/>
          <p:nvPr/>
        </p:nvPicPr>
        <p:blipFill>
          <a:blip r:embed="rId1"/>
          <a:stretch/>
        </p:blipFill>
        <p:spPr>
          <a:xfrm>
            <a:off x="4952880" y="2057400"/>
            <a:ext cx="307512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Filt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nasal cavity removes large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lveolar macroph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gulf small particles that reach lung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os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enters the respiratory syst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nostrils or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xternal na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hai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first particle filtra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nose"/>
          <p:cNvPicPr/>
          <p:nvPr/>
        </p:nvPicPr>
        <p:blipFill>
          <a:blip r:embed="rId1"/>
          <a:stretch/>
        </p:blipFill>
        <p:spPr>
          <a:xfrm>
            <a:off x="0" y="990720"/>
            <a:ext cx="51814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BobMartin"/>
          <p:cNvPicPr/>
          <p:nvPr/>
        </p:nvPicPr>
        <p:blipFill>
          <a:blip r:embed="rId2"/>
          <a:stretch/>
        </p:blipFill>
        <p:spPr>
          <a:xfrm>
            <a:off x="1905120" y="5800680"/>
            <a:ext cx="838080" cy="10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asal Cavit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sept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left and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ous secretions from paranasal sinus and tea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 and moisten the nasal ca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portion of nasal cavity is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olfactory 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ense of sm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nasal cavity"/>
          <p:cNvPicPr/>
          <p:nvPr/>
        </p:nvPicPr>
        <p:blipFill>
          <a:blip r:embed="rId1"/>
          <a:stretch/>
        </p:blipFill>
        <p:spPr>
          <a:xfrm>
            <a:off x="0" y="1295280"/>
            <a:ext cx="4952880" cy="449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 Flow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estibu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internal na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up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iddl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inferior concha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57600" y="1143000"/>
            <a:ext cx="5164200" cy="548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lat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86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Hard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 floor of nas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s nasal and o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ft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s posterior to hard pa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s superior nasopharynx from lower pharyn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143000"/>
            <a:ext cx="451800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al Mucos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73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and humidify inhaled air for arrival at lower respiratory orga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 through mouth bypasses this important st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13320" y="609480"/>
            <a:ext cx="53784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mber shared by digestive and respiratory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internal nares to entrances to larynx and esophag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normal-lung-anatomy-picture-c"/>
          <p:cNvPicPr/>
          <p:nvPr/>
        </p:nvPicPr>
        <p:blipFill>
          <a:blip r:embed="rId1"/>
          <a:stretch/>
        </p:blipFill>
        <p:spPr>
          <a:xfrm>
            <a:off x="3809880" y="53352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visions of 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Nas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r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aryng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ow it works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14600" y="12193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mple task of the respiratory system is to supply the blood cells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-2-6-4-0-0-0-0-0-0-0"/>
          <p:cNvPicPr/>
          <p:nvPr/>
        </p:nvPicPr>
        <p:blipFill>
          <a:blip r:embed="rId1"/>
          <a:stretch/>
        </p:blipFill>
        <p:spPr>
          <a:xfrm>
            <a:off x="3657600" y="2362320"/>
            <a:ext cx="4952880" cy="39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opharynx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 pharyngeal tonsils and openings to left and right auditory tub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22860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Oro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s with oral ca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onsilsAdenoid-Mouth"/>
          <p:cNvPicPr/>
          <p:nvPr/>
        </p:nvPicPr>
        <p:blipFill>
          <a:blip r:embed="rId2"/>
          <a:stretch/>
        </p:blipFill>
        <p:spPr>
          <a:xfrm>
            <a:off x="609480" y="3505320"/>
            <a:ext cx="419112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2209680" y="-444600"/>
            <a:ext cx="6172200" cy="8229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3" name="Content Placeholder 3" descr="2012-01-30_09.12.45.jpg"/>
          <p:cNvPicPr/>
          <p:nvPr/>
        </p:nvPicPr>
        <p:blipFill>
          <a:blip r:embed="rId1"/>
          <a:stretch/>
        </p:blipFill>
        <p:spPr>
          <a:xfrm>
            <a:off x="0" y="0"/>
            <a:ext cx="5257800" cy="701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Laryngopharynx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hyoid bone to entrance to larynx and esophag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4114800" y="1371600"/>
            <a:ext cx="446256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7087" t="19471" r="7068" b="11110"/>
          <a:stretch/>
        </p:blipFill>
        <p:spPr>
          <a:xfrm>
            <a:off x="0" y="762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s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large, unpaired cartilages form 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ryn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yroid cartil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ricoid carti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pi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495680" y="838080"/>
            <a:ext cx="4373640" cy="53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hyroid Cartilage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Adam’s ap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anterior and lateral walls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hyoid bone, epiglottis, and laryngeal cartil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800600" y="1219320"/>
            <a:ext cx="4186080" cy="510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Cricoid Cartil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posterior portion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first tracheal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191120" y="457200"/>
            <a:ext cx="46861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Epi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elastic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thyroid cartilage and hyoi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3886200" y="762120"/>
            <a:ext cx="47498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en we breathe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400800" y="99072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ion is achieved through the mouth, nose, trachea, lungs and diaphragm. Oxygen then enters through the mouth an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YSZ_surface_sml"/>
          <p:cNvPicPr/>
          <p:nvPr/>
        </p:nvPicPr>
        <p:blipFill>
          <a:blip r:embed="rId1"/>
          <a:stretch/>
        </p:blipFill>
        <p:spPr>
          <a:xfrm>
            <a:off x="1371600" y="1219320"/>
            <a:ext cx="5029200" cy="378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5320" y="6858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 Func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s entry of food and liquids into respiratory tra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swa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rynx is elev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piglottis folds back over 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yroid and cricoid cartilages support and prot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lott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trance to trach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4939" t="33354" r="4920" b="24992"/>
          <a:stretch/>
        </p:blipFill>
        <p:spPr>
          <a:xfrm>
            <a:off x="152280" y="1311120"/>
            <a:ext cx="8915400" cy="318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Produc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passing through glott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brates vocal fo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sound wa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2514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886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s var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ion on vocal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is done at the 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Trache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533520" y="914400"/>
            <a:ext cx="7696080" cy="577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Trachea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windpi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the cricoid cartilage into pulmonary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t branches in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eft pulmonary bronc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3429000" y="114300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racheal Cartilage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racheal cartil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en and protect air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ntinuous where trachea contacts esophag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s of each tracheal cartilage are connect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lastic ligament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rachealis mus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rimary Bronchi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 prim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an internal ridge (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ight Primary Bronchu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4290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arger in diameter than th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ends at a steeper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SEATS TODA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lasses (except 2a, 4a, 2b, 3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ON THE RESPIRATORY SYSTEM next FRI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ung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 lu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n left and right pleu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ior portion of each lung rests on superior surface of diaphra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igh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3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, middle,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horizontal and oblique fis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rganization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spiratory system is divided into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upp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bove the larynx, an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ow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rom the larynx d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ef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2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separated by an oblique fis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lationship between Lungs and He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7087" t="23634" r="5994" b="16662"/>
          <a:stretch/>
        </p:blipFill>
        <p:spPr>
          <a:xfrm>
            <a:off x="228600" y="1295280"/>
            <a:ext cx="8763120" cy="465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ung Shap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67080" y="-1295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l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wid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upward by 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76212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l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leftward by the heart forming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diac not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 Primary Bronch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es to for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econdary bronch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obar bronchi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5334120" y="1154160"/>
            <a:ext cx="3809880" cy="493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condary Bronchi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 to for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ti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egmental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ronchiti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ammation of bronchial wall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constriction and breathing difficu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Bronchio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mall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ranches into multipl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ronchi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nchioles branch in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tertiary bronchus forms about 6500 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lveolar Organizatio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ratory bronchioles are connected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g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d at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sac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mbers connected to many individual alveol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094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 Alveol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an extensive network of capill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urrounded by elastic fiber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8580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flammation of Lobules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pneumo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fluid to leak into alveo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omises function of respiratory membr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15303" t="23164" r="16662" b="21040"/>
          <a:stretch/>
        </p:blipFill>
        <p:spPr>
          <a:xfrm>
            <a:off x="1600200" y="990720"/>
            <a:ext cx="552924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echanics of breath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le’s law: The pressure of a gas in a closed container is inversely proportional to the volume of the contain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low in the lungs is driven by the differences in pressure between the atmosphere and the alveo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atm is consta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in P.alv drive vent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BOYLE"/>
          <p:cNvPicPr/>
          <p:nvPr/>
        </p:nvPicPr>
        <p:blipFill>
          <a:blip r:embed="rId1"/>
          <a:stretch/>
        </p:blipFill>
        <p:spPr>
          <a:xfrm>
            <a:off x="5446800" y="1424160"/>
            <a:ext cx="3579840" cy="438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as Pressure and Volum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rcRect l="28719" t="26857" r="28695" b="20799"/>
          <a:stretch/>
        </p:blipFill>
        <p:spPr>
          <a:xfrm>
            <a:off x="1523880" y="990720"/>
            <a:ext cx="60962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Atmospheric Pressur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of ai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several important physiological effec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oyle’s Law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s the relationship between gas pressure and volu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volume decreases, press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contained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pressure forces molecules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 of gas molecules exerts pressure on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chanisms of Pulmonary Ventil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rcRect l="15303" t="16722" r="12499" b="13524"/>
          <a:stretch/>
        </p:blipFill>
        <p:spPr>
          <a:xfrm>
            <a:off x="1812960" y="762120"/>
            <a:ext cx="4816440" cy="601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7737480" y="64436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1382" t="25023" r="5994" b="16662"/>
          <a:stretch/>
        </p:blipFill>
        <p:spPr>
          <a:xfrm>
            <a:off x="304920" y="990720"/>
            <a:ext cx="8762760" cy="477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742160" y="644364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c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2792" t="19471" r="2773" b="13889"/>
          <a:stretch/>
        </p:blipFill>
        <p:spPr>
          <a:xfrm>
            <a:off x="152280" y="1143000"/>
            <a:ext cx="8991720" cy="490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3 Muscle Groups of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Inhalation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Diaphrag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 draws air into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% of normal air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xternal intracostal musc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 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 of normal 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ccessory musc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sist in elevating ri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nocleidomast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toralis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eura and negative press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eumothorax: lung collapse due to air entering in the pleur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19589"/>
          <p:cNvPicPr/>
          <p:nvPr/>
        </p:nvPicPr>
        <p:blipFill>
          <a:blip r:embed="rId1"/>
          <a:stretch/>
        </p:blipFill>
        <p:spPr>
          <a:xfrm>
            <a:off x="4724280" y="6858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chest_tube"/>
          <p:cNvPicPr/>
          <p:nvPr/>
        </p:nvPicPr>
        <p:blipFill>
          <a:blip r:embed="rId2"/>
          <a:stretch/>
        </p:blipFill>
        <p:spPr>
          <a:xfrm>
            <a:off x="5334120" y="4419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80880" y="304920"/>
            <a:ext cx="8610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99"/>
                </a:solidFill>
                <a:latin typeface="Arial"/>
              </a:rPr>
              <a:t>Respiratory Disorders: Chronic Obstructive Pulmonary Disease (COPD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0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80880" y="2355840"/>
            <a:ext cx="824544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atures of these dis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almost always have a history of sm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ed breathing (dyspnea) becomes progressively more sev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ghing and frequent pulmonary infections are comm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80880" y="304920"/>
            <a:ext cx="838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Chronic Obstructive Pulmonary Disease (COP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80880" y="2057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992240" y="1295280"/>
            <a:ext cx="4937040" cy="5099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/>
          <p:cNvSpPr/>
          <p:nvPr/>
        </p:nvSpPr>
        <p:spPr>
          <a:xfrm>
            <a:off x="6858000" y="6126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Trac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onducting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spiratory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espiratory bronchi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Are air-filled pockets within the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gas exchange takes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Lung Canc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80880" y="1527120"/>
            <a:ext cx="8245440" cy="45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unts for 1/3 of all cancer deaths in 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d incidence associated with smo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common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mous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eno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80880" y="304920"/>
            <a:ext cx="8610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dden Infant Death syndrome (SIDS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80880" y="2098800"/>
            <a:ext cx="824544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arently healthy infant stops breathing and dies during slee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cases are thought to be a problem of the neural respiratory control cen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e third of cases appear to be due to heart rhythm abnormali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evelopmental Aspects of the Respiratory Syst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7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80880" y="2558880"/>
            <a:ext cx="82454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t birth de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stic fibrosis – oversecretion of thick mucus clogs the respirato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ft pa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ging Effe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80880" y="1843200"/>
            <a:ext cx="824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asticity of lungs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tal capacity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oxygen levels decr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imulating effects of carbon dioxide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risks of respiratory tract inf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Respiratory Rate Changes Throughout Lif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380880" y="1828800"/>
            <a:ext cx="824544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borns – 40 to 8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ants – 3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 5 – 25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ults – 12 to 18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e often increases somewhat with old 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age of the Respirato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3  The Nose, Nasal Cavity, and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1600200" y="1176480"/>
            <a:ext cx="5867280" cy="53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20:51:24Z</dcterms:created>
  <dc:creator>NOkazaki</dc:creator>
  <dc:description/>
  <dc:language>en-US</dc:language>
  <cp:lastModifiedBy>Andrew S. Hansell</cp:lastModifiedBy>
  <dcterms:modified xsi:type="dcterms:W3CDTF">2015-02-11T13:20:21Z</dcterms:modified>
  <cp:revision>58</cp:revision>
  <dc:subject/>
  <dc:title>The Respiratory system</dc:title>
</cp:coreProperties>
</file>