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2.jpeg" ContentType="image/jpeg"/>
  <Override PartName="/ppt/media/image42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74F1-F6A7-4262-BEF5-0D01C3239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FC24-6A9A-4947-A11A-046D75862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9D50-1918-4AB5-B22A-F9EE88D97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F33-A2B9-401A-94F2-5539610F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397-E1F1-4536-96EE-7B3F5857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B20-1197-441C-B5FD-E1B3AD91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3EB-5588-447A-8FA5-6F808CE8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123B-FF63-4EE5-A1F0-C753A11D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3960-6E1D-49BE-B856-3A5F4DA0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B9D2-75CA-409F-A251-3F63B730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2CA1-3FB9-4CCF-9C63-6AB31AC3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9835-2909-4053-86E5-E1ED12D4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D8C3-403C-4F67-B16B-A7AC6782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D046-5161-48E0-A4C9-F090398A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08A-01F4-4309-97EB-A0FC45C9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1C98-55F3-4FCF-A0B6-4D0513C2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932B-D7ED-44F2-886B-5A51E9A2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D68D-19B7-4540-84F6-6B8F53D8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824F-AF7F-4032-AED7-CC9F4043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B3D3-9607-49BD-AB6E-834F453F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144-4E0F-44B6-B7B8-38B452FE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998-BC82-4477-AED7-683BAB19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E016-0A3C-49A4-BB7F-9D20255B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F219-953F-425F-8663-3983BB6C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51E-B71F-4DD3-A455-E32B0579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86C-D2D5-4CC0-ADC5-0FA685B4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FD93-D84D-4568-8481-77D4633C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2E97-E0B9-4012-9FD4-057249E0C43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3F2F-E743-4D5F-B052-921A2F331D4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edited lung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5" name="▶ Anatomical Tutorial During Trans-Nasal Endoscopy.mp4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78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28600" y="0"/>
            <a:ext cx="85345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nch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two large passageways that lead from the trachea to your lungs (one for each l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he bronchi are further subdivided into bronchi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eventually, the further subdivisions lead to tiny a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ve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alveoli are in clusters, like gr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capillaries surrounding each alveolus is w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hange of gases with the blood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phrag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muscle that causes you to br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hiccups are involuntary contractions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10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95760"/>
            <a:ext cx="87631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10  The Bronchi and Lobules of the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676520" y="1179360"/>
            <a:ext cx="5486400" cy="5375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10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-95760"/>
            <a:ext cx="87631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10  The Bronchi and Lobules of the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1295280" y="1166760"/>
            <a:ext cx="6858000" cy="5356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63996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3814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= gas exchange --  Occurs at the levels of the lungs and tissues (external respiration) and cell (internal or cellular respiratio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respir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Pulmonary ventilation: movement of air in and ou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lu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 exchange in the alveol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 transport in the bloo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 exchanges between blood and tiss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igure_16_01_l"/>
          <p:cNvPicPr/>
          <p:nvPr/>
        </p:nvPicPr>
        <p:blipFill>
          <a:blip r:embed="rId1"/>
          <a:stretch/>
        </p:blipFill>
        <p:spPr>
          <a:xfrm>
            <a:off x="4506840" y="0"/>
            <a:ext cx="4637160" cy="6832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espiratory airway: Alveoli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veolar wall is formed by simple squamous epithelium = type I cells (SSE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as ex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ory membrane: membrane separating alveolus from blood capilla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surface area from the numerous alveoli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ter gas ex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ce of elastic fibers between alveo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figure_16_05_ab_l"/>
          <p:cNvPicPr/>
          <p:nvPr/>
        </p:nvPicPr>
        <p:blipFill>
          <a:blip r:embed="rId1"/>
          <a:stretch/>
        </p:blipFill>
        <p:spPr>
          <a:xfrm>
            <a:off x="457200" y="941400"/>
            <a:ext cx="8305920" cy="353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963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irway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4" name="Picture 4" descr="figure_16_03_l"/>
          <p:cNvPicPr/>
          <p:nvPr/>
        </p:nvPicPr>
        <p:blipFill>
          <a:blip r:embed="rId1"/>
          <a:stretch/>
        </p:blipFill>
        <p:spPr>
          <a:xfrm>
            <a:off x="3541680" y="990720"/>
            <a:ext cx="5602320" cy="5715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1240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per airway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nose to pharyn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airway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nducting airwa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ynx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ronchio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spiratory airwa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veo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lood supply to the lung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figure_16_06_l"/>
          <p:cNvPicPr/>
          <p:nvPr/>
        </p:nvPicPr>
        <p:blipFill>
          <a:blip r:embed="rId1"/>
          <a:stretch/>
        </p:blipFill>
        <p:spPr>
          <a:xfrm>
            <a:off x="1066680" y="762120"/>
            <a:ext cx="7543800" cy="3614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figure_16_05d_l"/>
          <p:cNvPicPr/>
          <p:nvPr/>
        </p:nvPicPr>
        <p:blipFill>
          <a:blip r:embed="rId2"/>
          <a:stretch/>
        </p:blipFill>
        <p:spPr>
          <a:xfrm>
            <a:off x="5486400" y="4287960"/>
            <a:ext cx="2813040" cy="257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99960"/>
            <a:ext cx="8763120" cy="192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2  The Respiratory Epithelium of the Nasal Cavity and Conducting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858000" cy="540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Human Respiratory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1" name="Picture 3" descr="respiratorydetail"/>
          <p:cNvPicPr/>
          <p:nvPr/>
        </p:nvPicPr>
        <p:blipFill>
          <a:blip r:embed="rId1"/>
          <a:stretch/>
        </p:blipFill>
        <p:spPr>
          <a:xfrm>
            <a:off x="2209680" y="1600200"/>
            <a:ext cx="4857840" cy="4915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espiratory Defense System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 a series of filtration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es particles and pathoge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mponents of 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espiratory Defense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Goblet ce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mucous glan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mucus that bathes exposed su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eep debris trapped in mucus toward the pharynx (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mucus escal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cilia"/>
          <p:cNvPicPr/>
          <p:nvPr/>
        </p:nvPicPr>
        <p:blipFill>
          <a:blip r:embed="rId1"/>
          <a:stretch/>
        </p:blipFill>
        <p:spPr>
          <a:xfrm>
            <a:off x="4952880" y="2057400"/>
            <a:ext cx="307512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mponents of 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espiratory Defense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Filtr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nasal cavity removes large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Alveolar macroph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ngulf small particles that reach lung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Nose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376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 enters the respiratory syste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 nostrils or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external na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nasal vestib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Nasal hai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n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nasal vestib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the first particle filtration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nose"/>
          <p:cNvPicPr/>
          <p:nvPr/>
        </p:nvPicPr>
        <p:blipFill>
          <a:blip r:embed="rId1"/>
          <a:stretch/>
        </p:blipFill>
        <p:spPr>
          <a:xfrm>
            <a:off x="0" y="990720"/>
            <a:ext cx="518148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BobMartin"/>
          <p:cNvPicPr/>
          <p:nvPr/>
        </p:nvPicPr>
        <p:blipFill>
          <a:blip r:embed="rId2"/>
          <a:stretch/>
        </p:blipFill>
        <p:spPr>
          <a:xfrm>
            <a:off x="1905120" y="5800680"/>
            <a:ext cx="838080" cy="105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Nasal Cavit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376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nasal sept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s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nasal cav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o left and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cous secretions from paranasal sinus and tear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n and moisten the nasal ca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ior portion of nasal cavity is 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olfactory reg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sense of sm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nasal cavity"/>
          <p:cNvPicPr/>
          <p:nvPr/>
        </p:nvPicPr>
        <p:blipFill>
          <a:blip r:embed="rId1"/>
          <a:stretch/>
        </p:blipFill>
        <p:spPr>
          <a:xfrm>
            <a:off x="0" y="1295280"/>
            <a:ext cx="4952880" cy="449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ir Flow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vestibu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internal nar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superi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middle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inferior concha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3657600" y="1143000"/>
            <a:ext cx="5164200" cy="5486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alat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3886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Hard pal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s floor of nasal ca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s nasal and oral ca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oft pal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ds posterior to hard pa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s superior nasopharynx from lower pharyn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4038480" y="1143000"/>
            <a:ext cx="4518000" cy="4800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Nasal Mucosa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733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m and humidify inhaled air for arrival at lower respiratory organ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thing through mouth bypasses this important ste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3613320" y="609480"/>
            <a:ext cx="537840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hamber shared by digestive and respiratory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s from internal nares to entrances to larynx and esophag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normal-lung-anatomy-picture-c"/>
          <p:cNvPicPr/>
          <p:nvPr/>
        </p:nvPicPr>
        <p:blipFill>
          <a:blip r:embed="rId1"/>
          <a:stretch/>
        </p:blipFill>
        <p:spPr>
          <a:xfrm>
            <a:off x="3809880" y="533520"/>
            <a:ext cx="5334120" cy="426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Divisions of the 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Naso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Oro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aryngo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How it works.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514600" y="121932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imple task of the respiratory system is to supply the blood cells with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-2-6-4-0-0-0-0-0-0-0"/>
          <p:cNvPicPr/>
          <p:nvPr/>
        </p:nvPicPr>
        <p:blipFill>
          <a:blip r:embed="rId1"/>
          <a:stretch/>
        </p:blipFill>
        <p:spPr>
          <a:xfrm>
            <a:off x="3657600" y="2362320"/>
            <a:ext cx="4952880" cy="39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Nasopharynx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ior portion of the 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ins pharyngeal tonsils and openings to left and right auditory tub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Illustration showing parts of the pharynx, including nasopharynx, oropharynx and laryngopharynx."/>
          <p:cNvPicPr/>
          <p:nvPr/>
        </p:nvPicPr>
        <p:blipFill>
          <a:blip r:embed="rId1"/>
          <a:stretch/>
        </p:blipFill>
        <p:spPr>
          <a:xfrm>
            <a:off x="5334120" y="228600"/>
            <a:ext cx="3809880" cy="3838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Oro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portion of the 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s with oral ca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Illustration showing parts of the pharynx, including nasopharynx, oropharynx and laryngopharynx.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3838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TonsilsAdenoid-Mouth"/>
          <p:cNvPicPr/>
          <p:nvPr/>
        </p:nvPicPr>
        <p:blipFill>
          <a:blip r:embed="rId2"/>
          <a:stretch/>
        </p:blipFill>
        <p:spPr>
          <a:xfrm>
            <a:off x="609480" y="3505320"/>
            <a:ext cx="4191120" cy="3017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1" name="Content Placeholder 3" descr=""/>
          <p:cNvPicPr/>
          <p:nvPr/>
        </p:nvPicPr>
        <p:blipFill>
          <a:blip r:embed="rId1"/>
          <a:stretch/>
        </p:blipFill>
        <p:spPr>
          <a:xfrm>
            <a:off x="2209680" y="-444600"/>
            <a:ext cx="6172200" cy="8229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3" name="Content Placeholder 3" descr="2012-01-30_09.12.45.jpg"/>
          <p:cNvPicPr/>
          <p:nvPr/>
        </p:nvPicPr>
        <p:blipFill>
          <a:blip r:embed="rId1"/>
          <a:stretch/>
        </p:blipFill>
        <p:spPr>
          <a:xfrm>
            <a:off x="0" y="0"/>
            <a:ext cx="5257800" cy="701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Laryngopharynx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rior portion of the 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s from hyoid bone to entrance to larynx and esophagu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Illustration showing parts of the pharynx, including nasopharynx, oropharynx and laryngopharynx."/>
          <p:cNvPicPr/>
          <p:nvPr/>
        </p:nvPicPr>
        <p:blipFill>
          <a:blip r:embed="rId1"/>
          <a:stretch/>
        </p:blipFill>
        <p:spPr>
          <a:xfrm>
            <a:off x="4114800" y="1371600"/>
            <a:ext cx="4462560" cy="449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natomy of the L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8240760" y="6583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rcRect l="7087" t="19471" r="7068" b="11110"/>
          <a:stretch/>
        </p:blipFill>
        <p:spPr>
          <a:xfrm>
            <a:off x="0" y="7621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960" y="-2289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artilages of the L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99036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large, unpaired cartilages form the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ryn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hyroid cartila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ricoid cartil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piglott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495680" y="838080"/>
            <a:ext cx="4373640" cy="5334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Thyroid Cartilage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the Adam’s ap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 hyaline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s anterior and lateral walls of l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aments attach to hyoid bone, epiglottis, and laryngeal cartil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800600" y="1219320"/>
            <a:ext cx="4186080" cy="5105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Cricoid Cartil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 hyaline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 posterior portion of l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aments attach to first tracheal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191120" y="457200"/>
            <a:ext cx="468612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Epiglotti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ed of elastic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aments attach to thyroid cartilage and hyoid b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3886200" y="762120"/>
            <a:ext cx="4749840" cy="579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en we breathe.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400800" y="990720"/>
            <a:ext cx="251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ion is achieved through the mouth, nose, trachea, lungs and diaphragm. Oxygen then enters through the mouth an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YSZ_surface_sml"/>
          <p:cNvPicPr/>
          <p:nvPr/>
        </p:nvPicPr>
        <p:blipFill>
          <a:blip r:embed="rId1"/>
          <a:stretch/>
        </p:blipFill>
        <p:spPr>
          <a:xfrm>
            <a:off x="1371600" y="1219320"/>
            <a:ext cx="5029200" cy="3787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505320" y="68580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artilage Func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ents entry of food and liquids into respiratory trac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swallow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rynx is elev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piglottis folds back over glott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yroid and cricoid cartilages support and protec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glott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trance to trache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Glotti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rcRect l="4939" t="33354" r="4920" b="24992"/>
          <a:stretch/>
        </p:blipFill>
        <p:spPr>
          <a:xfrm>
            <a:off x="152280" y="1311120"/>
            <a:ext cx="8915400" cy="318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und Produc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r passing through glott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brates vocal fol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s sound wa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2514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und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38862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is vari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sion on vocal 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ntary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ch is done at the l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natomy of the Trachea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8240760" y="6583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rcRect l="10709" t="15303" r="10685" b="8331"/>
          <a:stretch/>
        </p:blipFill>
        <p:spPr>
          <a:xfrm>
            <a:off x="533520" y="914400"/>
            <a:ext cx="7696080" cy="5778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Trachea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3429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the windpi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s from the cricoid cartilage into pulmonary bronch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it branches into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righ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left pulmonary bronch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rcRect l="10709" t="15303" r="10685" b="8331"/>
          <a:stretch/>
        </p:blipFill>
        <p:spPr>
          <a:xfrm>
            <a:off x="3429000" y="1143000"/>
            <a:ext cx="5562720" cy="417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Tracheal Cartilages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–20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racheal cartil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en and protect airw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ntinuous where trachea contacts esophag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s of each tracheal cartilage are connected b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lastic ligament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trachealis mus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rimary Bronchi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eft primary bronch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d by an internal ridge (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ari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2057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ight Primary Bronchus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34290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larger in diameter than the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ends at a steeper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SEATS TODAY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classes (except 2a, 4a, 2b, 3b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ON THE RESPIRATORY SYSTEM next FRI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Lung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886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ef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ight lung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in left and right pleural ca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b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ior portion of each lung rests on superior surface of diaphrag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ight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3 lobe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ior, middle, and inferi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d by horizontal and oblique fis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0492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rganization of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spiratory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spiratory system is divided into 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upper respiratory syste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bove the larynx, and 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ower respiratory syste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from the larynx dow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Left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2 lobe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ior and inferi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separated by an oblique fis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lationship between Lungs and Hear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rcRect l="7087" t="23634" r="5994" b="16662"/>
          <a:stretch/>
        </p:blipFill>
        <p:spPr>
          <a:xfrm>
            <a:off x="228600" y="1295280"/>
            <a:ext cx="8763120" cy="4651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ung Shap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267080" y="-1295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ght lung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wid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displaced upward by li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76212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 l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lon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displaced leftward by the heart forming 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ardiac notc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 Primary Bronchu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nches to form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secondary bronch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lobar bronchi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5334120" y="1154160"/>
            <a:ext cx="3809880" cy="493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econdary Bronchi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343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nch to form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ertiary bronch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lso called 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egmental bronch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4238640" y="685800"/>
            <a:ext cx="4905360" cy="6172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Bronchitis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lammation of bronchial wall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constriction and breathing difficul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4238640" y="685800"/>
            <a:ext cx="4905360" cy="61722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733920" y="-36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Bronchio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mall bronch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ranches into multipl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bronchio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nchioles branch into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erminal bronchioles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tertiary bronchus forms about 6500 terminal bronchio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lveolar Organization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iratory bronchioles are connected to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ong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ar 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ar duc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d at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ar sac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hambers connected to many individual alveol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124080" y="609480"/>
            <a:ext cx="6019920" cy="5924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n Alveolu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an extensive network of capilla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surrounded by elastic fiber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124080" y="685800"/>
            <a:ext cx="6019920" cy="5924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Inflammation of Lobules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pneumon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fluid to leak into alveol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romises function of respiratory membra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mponents of the Respiratory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rcRect l="15303" t="23164" r="16662" b="21040"/>
          <a:stretch/>
        </p:blipFill>
        <p:spPr>
          <a:xfrm>
            <a:off x="1600200" y="990720"/>
            <a:ext cx="552924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echanics of breathing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yle’s law: The pressure of a gas in a closed container is inversely proportional to the volume of the containe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flow in the lungs is driven by the differences in pressure between the atmosphere and the alveo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atm is constan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nges in P.alv drive venti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BOYLE"/>
          <p:cNvPicPr/>
          <p:nvPr/>
        </p:nvPicPr>
        <p:blipFill>
          <a:blip r:embed="rId1"/>
          <a:stretch/>
        </p:blipFill>
        <p:spPr>
          <a:xfrm>
            <a:off x="5446800" y="1424160"/>
            <a:ext cx="3579840" cy="4389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Gas Pressure and Volum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rcRect l="28719" t="26857" r="28695" b="20799"/>
          <a:stretch/>
        </p:blipFill>
        <p:spPr>
          <a:xfrm>
            <a:off x="1523880" y="990720"/>
            <a:ext cx="6096240" cy="579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Atmospheric Pressur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eight of ai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several important physiological effec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Boyle’s Law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s the relationship between gas pressure and volum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volume decreases, press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a contained g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pressure forces molecules closer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ement of gas molecules exerts pressure on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echanisms of Pulmonary Ventila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rcRect l="15303" t="16722" r="12499" b="13524"/>
          <a:stretch/>
        </p:blipFill>
        <p:spPr>
          <a:xfrm>
            <a:off x="1812960" y="762120"/>
            <a:ext cx="4816440" cy="6019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7737480" y="644364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6a,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espiratory Musc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rcRect l="11382" t="25023" r="5994" b="16662"/>
          <a:stretch/>
        </p:blipFill>
        <p:spPr>
          <a:xfrm>
            <a:off x="304920" y="990720"/>
            <a:ext cx="8762760" cy="477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espiratory Musc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742160" y="6443640"/>
            <a:ext cx="13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6c,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rcRect l="2792" t="19471" r="2773" b="13889"/>
          <a:stretch/>
        </p:blipFill>
        <p:spPr>
          <a:xfrm>
            <a:off x="152280" y="1143000"/>
            <a:ext cx="8991720" cy="490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3 Muscle Groups of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Inhalation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Diaphragm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ction draws air into 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5% of normal air mo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External intracostal muscles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st inha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 of normal ai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Accessory musc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sist in elevating rib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nocleidomast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ratus a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ctoralis mi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en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leura and negative pressu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neumothorax: lung collapse due to air entering in the pleural ca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2872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19589"/>
          <p:cNvPicPr/>
          <p:nvPr/>
        </p:nvPicPr>
        <p:blipFill>
          <a:blip r:embed="rId1"/>
          <a:stretch/>
        </p:blipFill>
        <p:spPr>
          <a:xfrm>
            <a:off x="4724280" y="6858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chest_tube"/>
          <p:cNvPicPr/>
          <p:nvPr/>
        </p:nvPicPr>
        <p:blipFill>
          <a:blip r:embed="rId2"/>
          <a:stretch/>
        </p:blipFill>
        <p:spPr>
          <a:xfrm>
            <a:off x="5334120" y="441972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380880" y="304920"/>
            <a:ext cx="86108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99"/>
                </a:solidFill>
                <a:latin typeface="Arial"/>
              </a:rPr>
              <a:t>Respiratory Disorders: Chronic Obstructive Pulmonary Disease (COPD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0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80880" y="2355840"/>
            <a:ext cx="824544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eatures of these dis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s almost always have a history of smo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ored breathing (dyspnea) becomes progressively more sev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ghing and frequent pulmonary infections are comm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80880" y="304920"/>
            <a:ext cx="8382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Chronic Obstructive Pulmonary Disease (COPD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80880" y="205740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1992240" y="1295280"/>
            <a:ext cx="4937040" cy="50990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9"/>
          <p:cNvSpPr/>
          <p:nvPr/>
        </p:nvSpPr>
        <p:spPr>
          <a:xfrm>
            <a:off x="6858000" y="6126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espiratory Trac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 a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conducting por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nasal cav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terminal bronchio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 a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espiratory por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respiratory bronchio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Are air-filled pockets within the 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all gas exchange takes 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Lung Cance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80880" y="1527120"/>
            <a:ext cx="8245440" cy="45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counts for 1/3 of all cancer deaths in the United St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reased incidence associated with smok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ree common typ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quamous cell carcin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enocarcin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cell carcin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80880" y="304920"/>
            <a:ext cx="86108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udden Infant Death syndrome (SIDS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380880" y="2098800"/>
            <a:ext cx="824544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parently healthy infant stops breathing and dies during slee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me cases are thought to be a problem of the neural respiratory control cen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ne third of cases appear to be due to heart rhythm abnormalit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Asthm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80880" y="2590920"/>
            <a:ext cx="824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ronic inflamed hypersensitive bronchiole pass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ponse to irritants with dyspnea, coughing, and wheez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Asthm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380880" y="2590920"/>
            <a:ext cx="824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ronic inflamed hypersensitive bronchiole pass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ponse to irritants with dyspnea, coughing, and wheez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80880" y="3049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Developmental Aspects of the Respiratory Syste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7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380880" y="2558880"/>
            <a:ext cx="824544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ortant birth de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stic fibrosis – oversecretion of thick mucus clogs the respiratory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ft pa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Aging Effec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380880" y="1843200"/>
            <a:ext cx="82454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asticity of lungs decr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ital capacity decr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lood oxygen levels decre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imulating effects of carbon dioxide decr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re risks of respiratory tract inf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380880" y="3049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Respiratory Rate Changes Throughout Lif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380880" y="1828800"/>
            <a:ext cx="824544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wborns – 40 to 80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fants – 30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e 5 – 25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ults – 12 to 18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ate often increases somewhat with old 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mage of the Respirator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95760"/>
            <a:ext cx="87631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3  The Nose, Nasal Cavity, and 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1600200" y="1176480"/>
            <a:ext cx="5867280" cy="536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20:51:24Z</dcterms:created>
  <dc:creator>NOkazaki</dc:creator>
  <dc:description/>
  <dc:language>en-US</dc:language>
  <cp:lastModifiedBy>Andrew S. Hansell</cp:lastModifiedBy>
  <dcterms:modified xsi:type="dcterms:W3CDTF">2015-02-11T13:20:21Z</dcterms:modified>
  <cp:revision>58</cp:revision>
  <dc:subject/>
  <dc:title>The Respiratory system</dc:title>
</cp:coreProperties>
</file>