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98BB-AA60-43DF-A108-FF769240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11C-E0D5-49F2-BB33-092C2EEF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8563-FB59-4C2E-8DB2-186549A0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466-F34D-426F-813C-7C48CCFF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B6A-D5E4-4310-82D0-37964BF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155-E5B1-404A-BD7F-CEFF1FDD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BD4-6FF5-4984-A770-9C930E0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A05-A55A-44D4-BF0A-9AD6E7DF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D02-E44E-4CF8-9E76-5D15EE9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153-1A08-4FFB-A691-2B312E39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F6D-25D8-45E2-A7D3-814662FF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365-6FF3-470C-8F69-577F82D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3198-623D-4DED-871F-F1EB7E9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2A0-C906-47BC-9459-9F6D005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25A-D09E-45EC-BD15-8F8867B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54A5-AC8A-4F80-BE03-121B271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03E-A4F3-4B27-85CB-E26B3185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526-077A-42F7-8A83-435627F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38FC-A58E-4440-8E5C-4F4D6CA2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C0EA-CAE9-43A4-9EF6-0AEBE9C5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5FC-74F1-4EDE-874D-82D1650F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8E6-234E-4E87-A5BA-4DCB353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DE4-361A-4519-833F-858CA06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225-E586-4DA3-8396-6C87A94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45A-B1CF-4E27-91E0-DD8EB03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444-905D-4219-8B51-DBFB19A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172-A0BF-47FA-9DB4-E85E3C5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F95-48A4-4F22-AB00-7FED1B46BC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4F5-DE97-4660-A7BA-C113CFF9FF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dited lu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5" name="▶ Anatomical Tutorial During Trans-Nasal Endoscopy.mp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wo large passageways that lead from the trachea to your lungs (one for each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bronchi are further subdivided into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ventually, the further subdivisions lead to tiny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lveoli are in clusters, like gr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apillaries surrounding each alveolus is 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hange of gases with the blood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uscle that causes you to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iccups are involuntary contrac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676520" y="1179360"/>
            <a:ext cx="5486400" cy="537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6858000" cy="535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63996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81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= gas exchange --  Occurs at the levels of the lungs and tissues (external respiration) and cell (internal or cellular respir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spi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ulmonary ventilation: movement of air in and ou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lu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 in the alveo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transport in the bl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s between blood and t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igure_16_01_l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3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spiratory airway: Alveoli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ar wall is formed by simple squamous epithelium = type I cells (SSE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ory membrane: membrane separating alveolus from blood capill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urface area from the numerous alveol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elastic fibers between 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igure_16_05_ab_l"/>
          <p:cNvPicPr/>
          <p:nvPr/>
        </p:nvPicPr>
        <p:blipFill>
          <a:blip r:embed="rId1"/>
          <a:stretch/>
        </p:blipFill>
        <p:spPr>
          <a:xfrm>
            <a:off x="457200" y="941400"/>
            <a:ext cx="8305920" cy="353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way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4" descr="figure_16_03_l"/>
          <p:cNvPicPr/>
          <p:nvPr/>
        </p:nvPicPr>
        <p:blipFill>
          <a:blip r:embed="rId1"/>
          <a:stretch/>
        </p:blipFill>
        <p:spPr>
          <a:xfrm>
            <a:off x="3541680" y="990720"/>
            <a:ext cx="56023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air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se to phar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air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ducting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nchi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piratory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lood supply to the lung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igure_16_06_l"/>
          <p:cNvPicPr/>
          <p:nvPr/>
        </p:nvPicPr>
        <p:blipFill>
          <a:blip r:embed="rId1"/>
          <a:stretch/>
        </p:blipFill>
        <p:spPr>
          <a:xfrm>
            <a:off x="1066680" y="762120"/>
            <a:ext cx="7543800" cy="36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gure_16_05d_l"/>
          <p:cNvPicPr/>
          <p:nvPr/>
        </p:nvPicPr>
        <p:blipFill>
          <a:blip r:embed="rId2"/>
          <a:stretch/>
        </p:blipFill>
        <p:spPr>
          <a:xfrm>
            <a:off x="5486400" y="4287960"/>
            <a:ext cx="2813040" cy="257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99960"/>
            <a:ext cx="876312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2  The Respiratory Epithelium of the Nasal Cavity and Conducting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540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3" descr="respiratorydetail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series of filtra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s particles and patho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mucus that bathes exposed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ep debris trapped in mucus toward the pharynx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mucus esca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ilia"/>
          <p:cNvPicPr/>
          <p:nvPr/>
        </p:nvPicPr>
        <p:blipFill>
          <a:blip r:embed="rId1"/>
          <a:stretch/>
        </p:blipFill>
        <p:spPr>
          <a:xfrm>
            <a:off x="4952880" y="2057400"/>
            <a:ext cx="307512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nasal cavity removes large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lveolar macroph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gulf small particles that reach lung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os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enters the respiratory syst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nostrils or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ternal 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h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irst particle filtr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nose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obMartin"/>
          <p:cNvPicPr/>
          <p:nvPr/>
        </p:nvPicPr>
        <p:blipFill>
          <a:blip r:embed="rId2"/>
          <a:stretch/>
        </p:blipFill>
        <p:spPr>
          <a:xfrm>
            <a:off x="1905120" y="5800680"/>
            <a:ext cx="838080" cy="10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asal Cavit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sept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left and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secretions from paranasal sinus and tea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and moisten the nas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portion of nasal cavity is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lfactory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nse of sm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asal cavity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9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stibu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nal na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iddl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nferior concha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la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Hard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floor of nas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nasal and o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ft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posterior to hard pa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s superior nasopharynx from lower ph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al Mucos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and humidify inhaled air for arrival at lower respiratory org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through mouth bypasses this important st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mber shared by digestive and respirator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internal nares to entrances to larynx and esophag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normal-lung-anatomy-picture-c"/>
          <p:cNvPicPr/>
          <p:nvPr/>
        </p:nvPicPr>
        <p:blipFill>
          <a:blip r:embed="rId1"/>
          <a:stretch/>
        </p:blipFill>
        <p:spPr>
          <a:xfrm>
            <a:off x="3809880" y="5335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visions of 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Nas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r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aryng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ow it works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12193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mple task of the respiratory system is to supply the blood cells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2-6-4-0-0-0-0-0-0-0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opharynx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pharyngeal tonsils and openings to left and right auditory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22860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Oro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s with oral ca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onsilsAdenoid-Mouth"/>
          <p:cNvPicPr/>
          <p:nvPr/>
        </p:nvPicPr>
        <p:blipFill>
          <a:blip r:embed="rId2"/>
          <a:stretch/>
        </p:blipFill>
        <p:spPr>
          <a:xfrm>
            <a:off x="609480" y="350532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2209680" y="-444600"/>
            <a:ext cx="6172200" cy="822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Content Placeholder 3" descr="2012-01-30_09.12.45.jpg"/>
          <p:cNvPicPr/>
          <p:nvPr/>
        </p:nvPicPr>
        <p:blipFill>
          <a:blip r:embed="rId1"/>
          <a:stretch/>
        </p:blipFill>
        <p:spPr>
          <a:xfrm>
            <a:off x="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Laryngopharynx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hyoid bone to entrance to larynx and esophag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4114800" y="1371600"/>
            <a:ext cx="446256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0" y="762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s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large, unpaired cartilages form 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ryn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yroid cartil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icoid carti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pi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495680" y="83808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hyroid Cartilage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Adam’s ap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anterior and lateral walls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hyoid bone, epiglottis, and laryngeal cartil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Cricoid Cartil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posterior portion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first tracheal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Epi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elastic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thyroid cartilage and hyoi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en we breathe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00800" y="9907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 is achieved through the mouth, nose, trachea, lungs and diaphragm. Oxygen then enters through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YSZ_surface_sml"/>
          <p:cNvPicPr/>
          <p:nvPr/>
        </p:nvPicPr>
        <p:blipFill>
          <a:blip r:embed="rId1"/>
          <a:stretch/>
        </p:blipFill>
        <p:spPr>
          <a:xfrm>
            <a:off x="1371600" y="1219320"/>
            <a:ext cx="5029200" cy="378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5320" y="6858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 Fun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s entry of food and liquids into respiratory tra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wa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ynx is ele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piglottis folds back over 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yroid and cricoid cartilages support and prot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lot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trance to trach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Produ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passing through glott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brates vocal fo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sound wa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s var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on vocal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is done at the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Trache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Trachea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windpi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the cricoid cartilage into pulmonary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t branches in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eft pulmonary bronc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racheal Cartilage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racheal cartil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en and protect air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ous where trachea contacts esophag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s of each tracheal cartilage are connect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lastic ligament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rachealis mus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rimary Bronchi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 prim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an internal ridge (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ight Primary Bronchu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arger in diameter tha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s at a steeper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EATS TODA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lasses (except 2a, 4a, 2b, 3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ON THE RESPIRATORY SYSTEM next FRI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ung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 lu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left and right pleu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portion of each lung rests on superior surface of diaphra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igh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3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, middle,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horizontal and oblique fis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piratory system is divided into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upp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bove the larynx, an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ow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rom the larynx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f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2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separated by an oblique fi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lationship between Lungs and He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ung Shap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7080" y="-1295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l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wi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upward by 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l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leftward by the heart forming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diac no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Primary Bronch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 to for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econdary bronch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obar bronchi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5334120" y="1154160"/>
            <a:ext cx="3809880" cy="49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ary Bronchi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 to for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ti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egmental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ronchiti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of bronchial wal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constriction and breathing difficu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Bronchi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mall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nches into multipl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ronchi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chioles branch in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tertiary bronchus forms about 6500 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veolar Organiz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tory bronchioles are connected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d at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sac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mbers connected to many individual alveol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 Alveol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an extensive network of capill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urrounded by elastic fiber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flammation of Lobule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fluid to leak into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s function of respiratory membr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echanics of breath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le’s law: The pressure of a gas in a closed container is inversely proportional to the volume of the contain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low in the lungs is driven by the differences in pressure between the atmosphere and the alve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atm is consta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in P.alv drive vent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OYLE"/>
          <p:cNvPicPr/>
          <p:nvPr/>
        </p:nvPicPr>
        <p:blipFill>
          <a:blip r:embed="rId1"/>
          <a:stretch/>
        </p:blipFill>
        <p:spPr>
          <a:xfrm>
            <a:off x="5446800" y="1424160"/>
            <a:ext cx="3579840" cy="438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as Pressure and Volum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Atmospheric Press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i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several important physiological eff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oyle’s Law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s the relationship between gas pressure and vol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contained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essure forces molecules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 of gas molecules exerts pressure on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chanisms of Pulmonary Ventil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3 Muscle Groups of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Inhalation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aphrag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draws air into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% of normal air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xternal intracostal musc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 of normal 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ccessory musc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sist in elevating ri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nocleidomast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eura and negative press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thorax: lung collapse due to air entering in the pleur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19589"/>
          <p:cNvPicPr/>
          <p:nvPr/>
        </p:nvPicPr>
        <p:blipFill>
          <a:blip r:embed="rId1"/>
          <a:stretch/>
        </p:blipFill>
        <p:spPr>
          <a:xfrm>
            <a:off x="4724280" y="6858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chest_tube"/>
          <p:cNvPicPr/>
          <p:nvPr/>
        </p:nvPicPr>
        <p:blipFill>
          <a:blip r:embed="rId2"/>
          <a:stretch/>
        </p:blipFill>
        <p:spPr>
          <a:xfrm>
            <a:off x="5334120" y="4419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80880" y="304920"/>
            <a:ext cx="8610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99"/>
                </a:solidFill>
                <a:latin typeface="Arial"/>
              </a:rPr>
              <a:t>Respiratory Disorders: Chronic Obstructive Pulmonary Disease (COPD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0880" y="2355840"/>
            <a:ext cx="82454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atures of these dis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almost always have a history of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ed breathing (dyspnea) becomes progressively more sev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ghing and frequent pulmonary infections are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80880" y="30492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Chronic Obstructive Pulmonary Disease (COP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80880" y="2057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92240" y="1295280"/>
            <a:ext cx="4937040" cy="5099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68580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Trac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nducting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spiratory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espiratory bronch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e air-filled pockets within the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gas exchange takes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Lung Canc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80880" y="1527120"/>
            <a:ext cx="8245440" cy="45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unts for 1/3 of all cancer deaths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incidence associated with smo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comm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mous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eno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304920"/>
            <a:ext cx="8610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dden Infant Death syndrome (SIDS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80880" y="2098800"/>
            <a:ext cx="824544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arently healthy infant stops breathing and dies during sl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cases are thought to be a problem of the neural respiratory control 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e third of cases appear to be due to heart rhythm abnormal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velopmental Aspects of the Respiratory Syst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7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80880" y="2558880"/>
            <a:ext cx="82454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t birth de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stic fibrosis – oversecretion of thick mucus clogs the respirato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ft pa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ging Effe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80880" y="1843200"/>
            <a:ext cx="824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asticity of lungs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tal capacity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oxygen levels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imulating effects of carbon dioxide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risks of respiratory tract inf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spiratory Rate Changes Throughout Lif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80880" y="1828800"/>
            <a:ext cx="824544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borns – 40 to 8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ants – 3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 5 – 25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s – 12 to 18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e often increases somewhat with old 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age of the Respir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3  The Nose, Nasal Cavity, and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1600200" y="1176480"/>
            <a:ext cx="586728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20:51:24Z</dcterms:created>
  <dc:creator>NOkazaki</dc:creator>
  <dc:description/>
  <dc:language>en-US</dc:language>
  <cp:lastModifiedBy>Andrew S. Hansell</cp:lastModifiedBy>
  <dcterms:modified xsi:type="dcterms:W3CDTF">2015-02-11T13:20:21Z</dcterms:modified>
  <cp:revision>58</cp:revision>
  <dc:subject/>
  <dc:title>The Respiratory system</dc:title>
</cp:coreProperties>
</file>