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480-4145-4C50-8919-6F1730E1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862-40EF-4DEC-A657-4A6B0E9EE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CA39-8E71-4E42-8BA8-314230E38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0CE-6410-4416-AA65-4579CA249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1A4-5133-435A-812A-753D9C66C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BDC-39F1-4565-9D49-086E019FB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DFB-C5C5-45C1-895B-4ADCC3E35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A6ED-75A8-4E1A-9AC8-B162E46181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E6E-6D56-405A-8CD1-C6D9CA5B1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00B-AA68-4709-9A99-65A23827E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57BD-9020-4574-9844-F4048A1D4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84A-D77D-44E9-B784-8F3B59E8D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3D0-0B63-4C4C-9B66-F852497AE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0F2-93EE-4744-BDE5-C8479EC5B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794-6E5E-4364-BECA-95EEACAFD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C5C-9E6E-46EC-9838-DF1725E1E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B5B9-35B1-4214-90ED-562558F14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BB30-BBCA-4CDC-9281-6CFE48AF1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D1B-4BDC-4C29-9470-831EE14F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7C7-793F-4BEA-9A9F-9D4350D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C92-CC17-453B-B912-2B9EED21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108-A7CF-44E4-B2FA-568050AF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F61-3344-41B4-AEBB-54DF7598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7DC9-0168-4A24-A572-4F21310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4D5-38AD-4B06-A03E-04C3FAE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66F-CBA5-45D1-B1CF-443CA960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1BD4-CCDB-4D2B-936E-00783D7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C317-87E2-485C-9A90-84AA3F9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64EB-84CC-4789-A7B6-7D4786F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050-278D-49E3-973D-E65CA38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CDA-154D-405D-A326-46E98C9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519-E521-4272-A50A-50B8640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0768-0160-42AD-B1DE-6DCDC6E1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C28C-0E4B-4DB5-9737-9B7C1921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2A6-E940-463E-AB6B-BC704873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AA8-C936-4B73-9009-3A04A80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758-B3C2-4EFC-ACBA-47A97D3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F4E-0ACF-476A-B849-7201AC2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652-BED8-4C0F-A736-17C36FD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E55-9FB7-468A-87B9-16E7A2E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50D-FD90-4546-9EED-E8148F0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D2B-BFCC-46EA-A03B-A2C7118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226C-FE2C-44BE-918F-8386C4A00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7F8-1640-487C-ACCD-E6E76F3674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6/Gray354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digitorum-longus/atlasImage_lar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hallucis-longus/atlasImage_lar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THE ANKLE &amp; LOWER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ubtalar Joi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CANE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L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7" descr="subtalar"/>
          <p:cNvPicPr/>
          <p:nvPr/>
        </p:nvPicPr>
        <p:blipFill>
          <a:blip r:embed="rId1"/>
          <a:stretch/>
        </p:blipFill>
        <p:spPr>
          <a:xfrm>
            <a:off x="380880" y="3962520"/>
            <a:ext cx="3943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ussycat"/>
              </a:rPr>
              <a:t>SUBTALAR JOINT (Cont.)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INT MO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7" descr="Inversion"/>
          <p:cNvPicPr/>
          <p:nvPr/>
        </p:nvPicPr>
        <p:blipFill>
          <a:blip r:embed="rId1"/>
          <a:stretch/>
        </p:blipFill>
        <p:spPr>
          <a:xfrm>
            <a:off x="1139760" y="1143000"/>
            <a:ext cx="2298600" cy="281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Eversion"/>
          <p:cNvPicPr/>
          <p:nvPr/>
        </p:nvPicPr>
        <p:blipFill>
          <a:blip r:embed="rId2"/>
          <a:stretch/>
        </p:blipFill>
        <p:spPr>
          <a:xfrm>
            <a:off x="1143000" y="3886200"/>
            <a:ext cx="2289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al Tib-Fib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rue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aments prevent the tibia and fibula from spreading a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5" descr="distal lower extremity syndesmosis (DLES)"/>
          <p:cNvPicPr/>
          <p:nvPr/>
        </p:nvPicPr>
        <p:blipFill>
          <a:blip r:embed="rId1"/>
          <a:stretch/>
        </p:blipFill>
        <p:spPr>
          <a:xfrm>
            <a:off x="5029200" y="2209680"/>
            <a:ext cx="333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INTEROSSEOUS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NECTS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10" descr="drryan26d"/>
          <p:cNvPicPr/>
          <p:nvPr/>
        </p:nvPicPr>
        <p:blipFill>
          <a:blip r:embed="rId1"/>
          <a:stretch/>
        </p:blipFill>
        <p:spPr>
          <a:xfrm>
            <a:off x="4495680" y="1905120"/>
            <a:ext cx="4410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355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toid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l aspect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trong rarely tor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7" descr="Image:Gray35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523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LATERAL LIGA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ANE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IN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10" descr="ankle_sprain_anat01"/>
          <p:cNvPicPr/>
          <p:nvPr/>
        </p:nvPicPr>
        <p:blipFill>
          <a:blip r:embed="rId1"/>
          <a:stretch/>
        </p:blipFill>
        <p:spPr>
          <a:xfrm>
            <a:off x="4800600" y="0"/>
            <a:ext cx="3809880" cy="3171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ankle_sprain_anat02"/>
          <p:cNvPicPr/>
          <p:nvPr/>
        </p:nvPicPr>
        <p:blipFill>
          <a:blip r:embed="rId2"/>
          <a:stretch/>
        </p:blipFill>
        <p:spPr>
          <a:xfrm>
            <a:off x="4419720" y="3505320"/>
            <a:ext cx="4724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terior and Posterior TIBIOFIBULAR liga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 THE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5" descr="syndesmosis"/>
          <p:cNvPicPr/>
          <p:nvPr/>
        </p:nvPicPr>
        <p:blipFill>
          <a:blip r:embed="rId1"/>
          <a:stretch/>
        </p:blipFill>
        <p:spPr>
          <a:xfrm>
            <a:off x="19810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ON THE ANTERIOR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I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DIGITORUM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HALLUCIS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IS ANTERIOR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ARF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ROCNEM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BRE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0" name="Line 19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1" name="Line 20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3" name="Line 22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4" name="Line 23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5" name="Line 24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8" name="Line 27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0" name="Line 29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BIALIS POSTERIOR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DIGITORUM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HALLUCI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Muscles of the Foot, Ankle, Lower 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strocnem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di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dial femoral condy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ter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teral cond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nerv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Picture 5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e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ular head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4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ntar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acondylar line of distal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flexor of ankle; also flexes kn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5, S1, S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hilles Tend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3224160" y="1600200"/>
            <a:ext cx="2693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Pos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l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ficial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erts on the tuberosity of the navicular bon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eper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ntar sufraces of metatarsals 2 - 4 and second cunei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invertor of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4, L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Digitorum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urface of tib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four slips these slips then insert on plantar surface of bases of 2nd - 5th distal phal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toes 2 - 5; also helps inversion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5" descr="Flexor Digitorum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 2/3 of posterior surface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surface of base of distal phalanx of great to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great toe, helps to invert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5" descr="Flexor Hallucis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0440" y="1676520"/>
            <a:ext cx="4003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An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 condyle of tibi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st cuneiform and on base of first metatar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iflexor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36" name="Group 17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437" name="Line 18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0" name="Line 21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1" name="Line 22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2" name="Line 23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3" name="Line 24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5" name="Line 26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6" name="Line 27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7" name="Line 28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8" name="Line 29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s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fibula and the interosseous membra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and dorsal center of distal phalanx of great t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s great toe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toes 2 - 5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tensor Digitorum Longu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Picture 4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Tert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bular shaft su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of the fifth metata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t the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5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Brev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ior 2/3 of lateral fibular surfac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of 5th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peroneusbrevis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Picture 4" descr="peroneuslongus"/>
          <p:cNvPicPr/>
          <p:nvPr/>
        </p:nvPicPr>
        <p:blipFill>
          <a:blip r:embed="rId1"/>
          <a:stretch/>
        </p:blipFill>
        <p:spPr>
          <a:xfrm>
            <a:off x="6688080" y="1447920"/>
            <a:ext cx="2455920" cy="5410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oleoffoot7"/>
          <p:cNvPicPr/>
          <p:nvPr/>
        </p:nvPicPr>
        <p:blipFill>
          <a:blip r:embed="rId2"/>
          <a:stretch/>
        </p:blipFill>
        <p:spPr>
          <a:xfrm>
            <a:off x="3886200" y="1581120"/>
            <a:ext cx="2876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nemonic for Learning Tarsal Bones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59" name="Group 12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460" name="Line 13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463" name="Line 16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466" name="Line 19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469" name="Line 22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472" name="Line 25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4" name="Group 27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475" name="Line 28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478" name="Line 31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480" name="Text Box 33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483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5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5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6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9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3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5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06" name="Text Box 27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639828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 Answe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510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3" name="Text Box 7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7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0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1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2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33" name="Text Box 27"/>
          <p:cNvSpPr/>
          <p:nvPr/>
        </p:nvSpPr>
        <p:spPr>
          <a:xfrm>
            <a:off x="632196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ankbone"/>
          <p:cNvPicPr/>
          <p:nvPr/>
        </p:nvPicPr>
        <p:blipFill>
          <a:blip r:embed="rId1"/>
          <a:stretch/>
        </p:blipFill>
        <p:spPr>
          <a:xfrm>
            <a:off x="2749680" y="1496880"/>
            <a:ext cx="3306600" cy="49039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utura Md BT"/>
              </a:rPr>
              <a:t>BONES OF THE ANKLE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</a:t>
            </a:r>
            <a:r>
              <a:rPr b="0" lang="en-US" sz="4400" spc="-1" strike="noStrike">
                <a:solidFill>
                  <a:srgbClr val="ffffcc"/>
                </a:solidFill>
                <a:latin typeface="Poornut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osed of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teral Malleolus (Distal Portion of Fibu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dial Malleolus (Distal portion of Tib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0" descr="x-ray%2520talocrural%2520joint"/>
          <p:cNvPicPr/>
          <p:nvPr/>
        </p:nvPicPr>
        <p:blipFill>
          <a:blip r:embed="rId1"/>
          <a:stretch/>
        </p:blipFill>
        <p:spPr>
          <a:xfrm>
            <a:off x="4952880" y="1295280"/>
            <a:ext cx="378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 “cont.”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JOINT MO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PLANTAR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DORSI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8" descr="plantarflex"/>
          <p:cNvPicPr/>
          <p:nvPr/>
        </p:nvPicPr>
        <p:blipFill>
          <a:blip r:embed="rId1"/>
          <a:stretch/>
        </p:blipFill>
        <p:spPr>
          <a:xfrm>
            <a:off x="4572000" y="1371600"/>
            <a:ext cx="4191120" cy="3425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Plantar-Flexion-for-web"/>
          <p:cNvPicPr/>
          <p:nvPr/>
        </p:nvPicPr>
        <p:blipFill>
          <a:blip r:embed="rId2"/>
          <a:stretch/>
        </p:blipFill>
        <p:spPr>
          <a:xfrm>
            <a:off x="1600200" y="4876920"/>
            <a:ext cx="1600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5:28Z</dcterms:created>
  <dc:creator>Gary Mac Donald</dc:creator>
  <dc:description/>
  <dc:language>en-US</dc:language>
  <cp:lastModifiedBy>Andrew S. Hansell</cp:lastModifiedBy>
  <dcterms:modified xsi:type="dcterms:W3CDTF">2014-04-07T12:58:36Z</dcterms:modified>
  <cp:revision>13</cp:revision>
  <dc:subject/>
  <dc:title>THE ANKLE &amp; LOWER LEG</dc:title>
</cp:coreProperties>
</file>