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A3DC-E9F5-4663-9F13-F72B8FCF0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655E-AC8A-4FDA-B9B6-DC69177117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B4CD-5E11-4247-9B1E-90FD02EF66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483C-2BF5-464C-B1B8-6726C09EDF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535F-4E63-429C-8DDB-CDD963B5AA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23CC-BD18-463A-B41A-6796855C22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F48E-27C2-4C73-BF1F-8499E32E69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FA06-F9CF-4D58-B053-BA7EC74ECD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8E7D-62B7-4598-9DF0-498D782264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9B14-9A27-47C8-81C2-4FB590E1EC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8829-14E9-458D-BAD9-D224DD915D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8AE3-B227-4DC4-BC71-A372EB041C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BD11-901B-4B5A-8DF8-4518E87E45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ior View of 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emomic is for tarsals only; does not include metatarsals or phal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h slide show button at bottom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A981-5B82-4E71-8C56-2B857855EE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ior View of R 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9DF1-F9F5-4929-9700-432AB0A9B2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ior View of 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84D0-B0C1-46E4-9760-75B923DDED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16F8-FAFB-447B-ADE0-57C48847F2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DACB-FEA5-463D-BC7A-DF7D89E752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185C-4D52-4CEA-8143-1D7A04E6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187D-1610-4448-988E-A3F04C2D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D54-F8EA-4427-B8B2-6E696FBB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E124-4FF2-480B-8B25-AF7C07FF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6104-952A-459C-87F5-04DC2047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BC42-6120-4B33-A68A-9C853881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9EEF-4C29-4905-9876-2911C9E2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A24B-FF54-4664-BED2-DDACEAE1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6C2D-B561-4337-B7D0-A779BAA7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AD01-4C97-4A84-8F8E-C8E124F6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4F1A-BA1D-449A-BBEF-D0E631C1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81F-F1AC-4E46-8E43-D7E82C01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6198-1148-4783-846D-CC1EECB2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DB1F-7043-492E-B5EB-EC2B1612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4791-E760-4F00-AB69-E247602F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514D-6F54-4001-ADCC-F34855F3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CA20-A685-4E23-A6ED-3806F32C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A10-4A0D-4853-9FBB-EB06C639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520-6B3C-42D4-B0C7-5B9D4842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6B7-9EB7-4FD9-8D05-45995E4B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ACE-5609-4FF4-A99A-6B2E0E08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1AE-EB79-408C-BA0D-C0BB4680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8E4-B2D8-4329-AB98-2649B916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3D9D-76AE-443B-AE5B-4B5ED1B4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380E-8E20-49CD-8368-9D01E12EDF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9FA5-A613-49F5-9D2F-D0BCF643B5B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6/Gray354.pn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rad.washington.edu/academics/academic-sections/msk/muscle-atlas/lower-body/flexor-digitorum-longus/atlasImage_large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rad.washington.edu/academics/academic-sections/msk/muscle-atlas/lower-body/flexor-hallucis-longus/atlasImage_large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Porky's"/>
              </a:rPr>
              <a:t>THE ANKLE &amp; LOWER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Porky's"/>
              </a:rPr>
              <a:t>LE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Subtalar Joint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LCANE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L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5" name="Picture 7" descr="subtalar"/>
          <p:cNvPicPr/>
          <p:nvPr/>
        </p:nvPicPr>
        <p:blipFill>
          <a:blip r:embed="rId1"/>
          <a:stretch/>
        </p:blipFill>
        <p:spPr>
          <a:xfrm>
            <a:off x="380880" y="3962520"/>
            <a:ext cx="39434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Pussycat"/>
              </a:rPr>
              <a:t>SUBTALAR JOINT (Cont.)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OINT MO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VER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VER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8" name="Picture 7" descr="Inversion"/>
          <p:cNvPicPr/>
          <p:nvPr/>
        </p:nvPicPr>
        <p:blipFill>
          <a:blip r:embed="rId1"/>
          <a:stretch/>
        </p:blipFill>
        <p:spPr>
          <a:xfrm>
            <a:off x="1139760" y="1143000"/>
            <a:ext cx="2298600" cy="2819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8" descr="Eversion"/>
          <p:cNvPicPr/>
          <p:nvPr/>
        </p:nvPicPr>
        <p:blipFill>
          <a:blip r:embed="rId2"/>
          <a:stretch/>
        </p:blipFill>
        <p:spPr>
          <a:xfrm>
            <a:off x="1143000" y="3886200"/>
            <a:ext cx="22892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tal Tib-Fib Joi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38894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true mo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gaments prevent the tibia and fibula from spreading apa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5" descr="distal lower extremity syndesmosis (DLES)"/>
          <p:cNvPicPr/>
          <p:nvPr/>
        </p:nvPicPr>
        <p:blipFill>
          <a:blip r:embed="rId1"/>
          <a:stretch/>
        </p:blipFill>
        <p:spPr>
          <a:xfrm>
            <a:off x="5029200" y="2209680"/>
            <a:ext cx="33336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ussycat"/>
              </a:rPr>
              <a:t>LIGAMENTS AND CONNECTIVE TISSU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INTEROSSEOUS MEMBRA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NNECTS TIBIA AND FIB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5" name="Picture 10" descr="drryan26d"/>
          <p:cNvPicPr/>
          <p:nvPr/>
        </p:nvPicPr>
        <p:blipFill>
          <a:blip r:embed="rId1"/>
          <a:stretch/>
        </p:blipFill>
        <p:spPr>
          <a:xfrm>
            <a:off x="4495680" y="1905120"/>
            <a:ext cx="44103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ussycat"/>
              </a:rPr>
              <a:t>LIGAMENTS AND CONNECTIVE TISSU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486400" y="1599840"/>
            <a:ext cx="33559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toid lig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al aspect of ank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ts e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strong rarely tor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8" name="Picture 7" descr="Image:Gray354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76520"/>
            <a:ext cx="5238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ussycat"/>
              </a:rPr>
              <a:t>LIGAMENT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LATERAL LIGA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 TALOFIB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IOR TALOFIB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CANEOFIB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T IN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2" name="Picture 10" descr="ankle_sprain_anat01"/>
          <p:cNvPicPr/>
          <p:nvPr/>
        </p:nvPicPr>
        <p:blipFill>
          <a:blip r:embed="rId1"/>
          <a:stretch/>
        </p:blipFill>
        <p:spPr>
          <a:xfrm>
            <a:off x="4800600" y="0"/>
            <a:ext cx="3809880" cy="31719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2" descr="ankle_sprain_anat02"/>
          <p:cNvPicPr/>
          <p:nvPr/>
        </p:nvPicPr>
        <p:blipFill>
          <a:blip r:embed="rId2"/>
          <a:stretch/>
        </p:blipFill>
        <p:spPr>
          <a:xfrm>
            <a:off x="4419720" y="3505320"/>
            <a:ext cx="4724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Pussycat"/>
              </a:rPr>
              <a:t>LIGAMENTS AND CONNECTIVE TISSU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terior and Posterior TIBIOFIBULAR liga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DGE THE TIBIA AND FIB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6" name="Picture 5" descr="syndesmosis"/>
          <p:cNvPicPr/>
          <p:nvPr/>
        </p:nvPicPr>
        <p:blipFill>
          <a:blip r:embed="rId1"/>
          <a:stretch/>
        </p:blipFill>
        <p:spPr>
          <a:xfrm>
            <a:off x="1981080" y="35812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S OF ANKLE AND LOWER LE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S ON THE ANTERIOR S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RSI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SOR DIGITORUM LONGUS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SOR HALLUCIS LONGUS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BIALIS ANTERIOR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S OF ANKLE AND LOWER LE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ERFICIAL POSTERIOR COMPAR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ARFL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STROCNEMI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S OF ANKLE AND LOWER LE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ERAL COMPAR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ONEUS LO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ONEUS BRE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ower Leg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3890880" y="684360"/>
            <a:ext cx="1362240" cy="548784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4"/>
          <p:cNvSpPr/>
          <p:nvPr/>
        </p:nvSpPr>
        <p:spPr>
          <a:xfrm>
            <a:off x="2134080" y="6858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5869080" y="342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296000" y="3048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5638320" y="25146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bial tuberosity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6078600" y="5364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lus (tarsal bone)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56995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malleolus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15847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malleolus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170400" y="160020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condyle of 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150480" y="220968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condyle of 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6169320" y="632448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ght Leg, Anterior Vie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132480" y="1401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condyle of 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5923800" y="944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condyle of 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2971800" y="838080"/>
            <a:ext cx="1371600" cy="76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9" name="Line 18"/>
          <p:cNvSpPr/>
          <p:nvPr/>
        </p:nvSpPr>
        <p:spPr>
          <a:xfrm flipV="1">
            <a:off x="2819520" y="1447560"/>
            <a:ext cx="1447560" cy="15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0" name="Line 19"/>
          <p:cNvSpPr/>
          <p:nvPr/>
        </p:nvSpPr>
        <p:spPr>
          <a:xfrm flipH="1">
            <a:off x="4723920" y="1143000"/>
            <a:ext cx="121932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1" name="Line 20"/>
          <p:cNvSpPr/>
          <p:nvPr/>
        </p:nvSpPr>
        <p:spPr>
          <a:xfrm flipH="1">
            <a:off x="4648320" y="365760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2" name="Line 21"/>
          <p:cNvSpPr/>
          <p:nvPr/>
        </p:nvSpPr>
        <p:spPr>
          <a:xfrm flipV="1">
            <a:off x="2666880" y="1599840"/>
            <a:ext cx="16765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3" name="Line 22"/>
          <p:cNvSpPr/>
          <p:nvPr/>
        </p:nvSpPr>
        <p:spPr>
          <a:xfrm flipH="1" flipV="1">
            <a:off x="4724280" y="1599840"/>
            <a:ext cx="14479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4" name="Line 23"/>
          <p:cNvSpPr/>
          <p:nvPr/>
        </p:nvSpPr>
        <p:spPr>
          <a:xfrm flipH="1" flipV="1">
            <a:off x="4571640" y="1905120"/>
            <a:ext cx="106668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5" name="Line 24"/>
          <p:cNvSpPr/>
          <p:nvPr/>
        </p:nvSpPr>
        <p:spPr>
          <a:xfrm flipH="1">
            <a:off x="5028840" y="4876920"/>
            <a:ext cx="6858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6" name="Line 25"/>
          <p:cNvSpPr/>
          <p:nvPr/>
        </p:nvSpPr>
        <p:spPr>
          <a:xfrm flipV="1">
            <a:off x="2057400" y="3200400"/>
            <a:ext cx="2286000" cy="76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7" name="Line 26"/>
          <p:cNvSpPr/>
          <p:nvPr/>
        </p:nvSpPr>
        <p:spPr>
          <a:xfrm>
            <a:off x="3505320" y="4952880"/>
            <a:ext cx="91440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8" name="Line 27"/>
          <p:cNvSpPr/>
          <p:nvPr/>
        </p:nvSpPr>
        <p:spPr>
          <a:xfrm flipH="1" flipV="1">
            <a:off x="4800600" y="5486400"/>
            <a:ext cx="1295280" cy="763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9" name="Text Box 28"/>
          <p:cNvSpPr/>
          <p:nvPr/>
        </p:nvSpPr>
        <p:spPr>
          <a:xfrm>
            <a:off x="6080400" y="33480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ee cap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0" name="Line 29"/>
          <p:cNvSpPr/>
          <p:nvPr/>
        </p:nvSpPr>
        <p:spPr>
          <a:xfrm flipH="1">
            <a:off x="4571640" y="609480"/>
            <a:ext cx="152388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S OF ANKLE AND LOWER LE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EP POSTERIOR COMPAR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R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BIALIS POSTERIOR MUS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OR DIGITORUM LO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OR HALLUCIS LO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95264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  <a:ea typeface="Times New Roman"/>
              </a:rPr>
              <a:t>Muscles of the Foot, Ankle, Lower Le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astrocnemi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ri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edial hea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edial femoral condyl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ateral hea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lateral condy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Achilles tendon, inserting on the middle 1/3 of the posterior calcaneal surf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werful plantar flexor of ank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nerv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bial nerve (S1, S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0" name="Picture 5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e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bular head,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lles tendon, inserting on the middle 1/3 of the posterior calcaneal su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rful plantar flexor of ank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bial nerve (S1, S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3" name="Picture 4" descr="Soleu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lantar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racondylar line of distal fem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ddle 1/3 of the posterior calcaneal surface, just medial to Achilles tend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tar flexor of ankle; also flexes kn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bial nerve (L5, S1, S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6" name="Picture 4" descr="plantari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2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chilles Tend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1"/>
          <a:stretch/>
        </p:blipFill>
        <p:spPr>
          <a:xfrm>
            <a:off x="3224160" y="1600200"/>
            <a:ext cx="26938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bialis Posterior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al fibul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perficial sl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serts on the tuberosity of the navicular bone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eper sl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antar sufraces of metatarsals 2 - 4 and second cuneif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ncipal invertor of fo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bial nerve (L4, L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2" name="Picture 5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exor Digitorum Long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rior surface of tibi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lits into four slips these slips then insert on plantar surface of bases of 2nd - 5th distal phal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exes toes 2 - 5; also helps inversion of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bial ner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6" name="Picture 5" descr="Flexor Digitorum Long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828800"/>
            <a:ext cx="3086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exor Hallucis Long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rior 2/3 of posterior surface of fibul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tar surface of base of distal phalanx of great to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exes great toe, helps to invert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bial ner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Picture 5" descr="Flexor Hallucis Long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0440" y="1676520"/>
            <a:ext cx="4003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7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0" dur="2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3" dur="2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6" dur="2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bialis Anterior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ral condyle of tibi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st cuneiform and on base of first metatars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rsiflexor of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peroneal nerve (L4, L5, S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4" name="Picture 5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ower Leg2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3890880" y="684360"/>
            <a:ext cx="1362240" cy="54878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2134080" y="6858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5869080" y="342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1296000" y="3048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5638320" y="25146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bial tuberosity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6078600" y="5364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lus (tarsal bone)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56995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malleolus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15847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malleolus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6170400" y="160020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condyle of 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150480" y="220968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condyle of 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6169320" y="632448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ght Leg, Anterior Vie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132480" y="1401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condyle of 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5923800" y="944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condyle of 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6080400" y="33480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ee cap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grpSp>
        <p:nvGrpSpPr>
          <p:cNvPr id="436" name="Group 17"/>
          <p:cNvGrpSpPr/>
          <p:nvPr/>
        </p:nvGrpSpPr>
        <p:grpSpPr>
          <a:xfrm>
            <a:off x="2057400" y="609480"/>
            <a:ext cx="4114800" cy="4953240"/>
            <a:chOff x="2057400" y="609480"/>
            <a:chExt cx="4114800" cy="4953240"/>
          </a:xfrm>
        </p:grpSpPr>
        <p:sp>
          <p:nvSpPr>
            <p:cNvPr id="437" name="Line 18"/>
            <p:cNvSpPr/>
            <p:nvPr/>
          </p:nvSpPr>
          <p:spPr>
            <a:xfrm flipV="1">
              <a:off x="2971800" y="838080"/>
              <a:ext cx="1371600" cy="76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38" name="Line 19"/>
            <p:cNvSpPr/>
            <p:nvPr/>
          </p:nvSpPr>
          <p:spPr>
            <a:xfrm flipV="1">
              <a:off x="2819520" y="1447560"/>
              <a:ext cx="1447560" cy="152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 flipH="1">
              <a:off x="4723920" y="1143000"/>
              <a:ext cx="12193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0" name="Line 21"/>
            <p:cNvSpPr/>
            <p:nvPr/>
          </p:nvSpPr>
          <p:spPr>
            <a:xfrm flipH="1">
              <a:off x="4648320" y="36576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1" name="Line 22"/>
            <p:cNvSpPr/>
            <p:nvPr/>
          </p:nvSpPr>
          <p:spPr>
            <a:xfrm flipV="1">
              <a:off x="2666880" y="1599840"/>
              <a:ext cx="167652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2" name="Line 23"/>
            <p:cNvSpPr/>
            <p:nvPr/>
          </p:nvSpPr>
          <p:spPr>
            <a:xfrm flipH="1" flipV="1">
              <a:off x="4724280" y="1599840"/>
              <a:ext cx="144792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3" name="Line 24"/>
            <p:cNvSpPr/>
            <p:nvPr/>
          </p:nvSpPr>
          <p:spPr>
            <a:xfrm flipH="1" flipV="1">
              <a:off x="4571640" y="1905120"/>
              <a:ext cx="106668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4" name="Line 25"/>
            <p:cNvSpPr/>
            <p:nvPr/>
          </p:nvSpPr>
          <p:spPr>
            <a:xfrm flipH="1">
              <a:off x="5028840" y="4876920"/>
              <a:ext cx="68580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5" name="Line 26"/>
            <p:cNvSpPr/>
            <p:nvPr/>
          </p:nvSpPr>
          <p:spPr>
            <a:xfrm flipV="1">
              <a:off x="2057400" y="3200400"/>
              <a:ext cx="2286000" cy="763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6" name="Line 27"/>
            <p:cNvSpPr/>
            <p:nvPr/>
          </p:nvSpPr>
          <p:spPr>
            <a:xfrm>
              <a:off x="3505320" y="4952880"/>
              <a:ext cx="914400" cy="3049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7" name="Line 28"/>
            <p:cNvSpPr/>
            <p:nvPr/>
          </p:nvSpPr>
          <p:spPr>
            <a:xfrm flipH="1" flipV="1">
              <a:off x="4800600" y="5486400"/>
              <a:ext cx="1295280" cy="763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8" name="Line 29"/>
            <p:cNvSpPr/>
            <p:nvPr/>
          </p:nvSpPr>
          <p:spPr>
            <a:xfrm flipH="1">
              <a:off x="4571640" y="609480"/>
              <a:ext cx="1523880" cy="533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69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tensor Hallucis Long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erior fibula and the interosseous membra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 and dorsal center of distal phalanx of great to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ds great toe and dorsiflexes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peroneal nerve (L4, L5, S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7" name="Picture 4" descr="exthalllongus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9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2" dur="20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5" dur="20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8" dur="20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d of fibul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lits into 4 tendon slips each of which insert on middle and distal phalang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d toes 2 - 5 and dorsiflexes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peroneal nerve (L4, L5, S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xtensor Digitorum Longus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10" name="Picture 4" descr="extdiglongus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5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0" dur="2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3" dur="2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6" dur="20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9" dur="20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roneus Terti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bular shaft surf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 of the fifth metatars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ert the fo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peroneal ner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4" name="Picture 5" descr="perontertius: "/>
          <p:cNvPicPr/>
          <p:nvPr/>
        </p:nvPicPr>
        <p:blipFill>
          <a:blip r:embed="rId1"/>
          <a:stretch/>
        </p:blipFill>
        <p:spPr>
          <a:xfrm>
            <a:off x="7324560" y="0"/>
            <a:ext cx="181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roneus Brev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rior 2/3 of lateral fibular surface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of 5th metatarsal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ts foot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ficial peroneal ner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7" name="Picture 4" descr="peroneusbrevis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roneus Long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d of fibul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st metatarsal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ts f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ficial peroneal ner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0" name="Picture 4" descr="peroneuslongus"/>
          <p:cNvPicPr/>
          <p:nvPr/>
        </p:nvPicPr>
        <p:blipFill>
          <a:blip r:embed="rId1"/>
          <a:stretch/>
        </p:blipFill>
        <p:spPr>
          <a:xfrm>
            <a:off x="6688080" y="1447920"/>
            <a:ext cx="2455920" cy="54100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soleoffoot7"/>
          <p:cNvPicPr/>
          <p:nvPr/>
        </p:nvPicPr>
        <p:blipFill>
          <a:blip r:embed="rId2"/>
          <a:stretch/>
        </p:blipFill>
        <p:spPr>
          <a:xfrm>
            <a:off x="3886200" y="1581120"/>
            <a:ext cx="28764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3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6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9" dur="2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2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Mnemonic for Learning Tarsal Bones: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5486400" cy="22874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451" name="Text Box 4"/>
          <p:cNvSpPr/>
          <p:nvPr/>
        </p:nvSpPr>
        <p:spPr>
          <a:xfrm>
            <a:off x="6474960" y="205740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al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neiform (1)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6474960" y="335268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mediate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neiform (2)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6398640" y="464832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eral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neiform (3)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3275280" y="1828800"/>
            <a:ext cx="189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icular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 boat</a:t>
            </a: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t sails on the Cs</a:t>
            </a: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52640" y="2057400"/>
            <a:ext cx="117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s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1143000" y="57150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caneus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6095880" y="5943600"/>
            <a:ext cx="17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boid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1063800" y="914400"/>
            <a:ext cx="6749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ger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C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ubs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      N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eed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     M I L C</a:t>
            </a:r>
            <a:endParaRPr b="0" lang="en-US" sz="4400" spc="-1" strike="noStrike">
              <a:solidFill>
                <a:srgbClr val="ffffff"/>
              </a:solidFill>
              <a:latin typeface="Poornut"/>
            </a:endParaRPr>
          </a:p>
        </p:txBody>
      </p:sp>
      <p:grpSp>
        <p:nvGrpSpPr>
          <p:cNvPr id="459" name="Group 12"/>
          <p:cNvGrpSpPr/>
          <p:nvPr/>
        </p:nvGrpSpPr>
        <p:grpSpPr>
          <a:xfrm>
            <a:off x="457200" y="1523880"/>
            <a:ext cx="1219320" cy="2743200"/>
            <a:chOff x="457200" y="1523880"/>
            <a:chExt cx="1219320" cy="2743200"/>
          </a:xfrm>
        </p:grpSpPr>
        <p:sp>
          <p:nvSpPr>
            <p:cNvPr id="460" name="Line 13"/>
            <p:cNvSpPr/>
            <p:nvPr/>
          </p:nvSpPr>
          <p:spPr>
            <a:xfrm>
              <a:off x="457200" y="2590920"/>
              <a:ext cx="114300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61" name="Line 14"/>
            <p:cNvSpPr/>
            <p:nvPr/>
          </p:nvSpPr>
          <p:spPr>
            <a:xfrm>
              <a:off x="1371600" y="1523880"/>
              <a:ext cx="30492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62" name="Group 15"/>
          <p:cNvGrpSpPr/>
          <p:nvPr/>
        </p:nvGrpSpPr>
        <p:grpSpPr>
          <a:xfrm>
            <a:off x="914400" y="1447920"/>
            <a:ext cx="1523880" cy="4572000"/>
            <a:chOff x="914400" y="1447920"/>
            <a:chExt cx="1523880" cy="4572000"/>
          </a:xfrm>
        </p:grpSpPr>
        <p:sp>
          <p:nvSpPr>
            <p:cNvPr id="463" name="Line 16"/>
            <p:cNvSpPr/>
            <p:nvPr/>
          </p:nvSpPr>
          <p:spPr>
            <a:xfrm flipH="1">
              <a:off x="2133720" y="1447920"/>
              <a:ext cx="304560" cy="3200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64" name="Line 17"/>
            <p:cNvSpPr/>
            <p:nvPr/>
          </p:nvSpPr>
          <p:spPr>
            <a:xfrm flipH="1" flipV="1">
              <a:off x="914400" y="4648320"/>
              <a:ext cx="380880" cy="137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65" name="Group 18"/>
          <p:cNvGrpSpPr/>
          <p:nvPr/>
        </p:nvGrpSpPr>
        <p:grpSpPr>
          <a:xfrm>
            <a:off x="2590920" y="1523880"/>
            <a:ext cx="1676160" cy="2667240"/>
            <a:chOff x="2590920" y="1523880"/>
            <a:chExt cx="1676160" cy="2667240"/>
          </a:xfrm>
        </p:grpSpPr>
        <p:sp>
          <p:nvSpPr>
            <p:cNvPr id="466" name="Line 19"/>
            <p:cNvSpPr/>
            <p:nvPr/>
          </p:nvSpPr>
          <p:spPr>
            <a:xfrm flipH="1">
              <a:off x="2590920" y="2209680"/>
              <a:ext cx="838080" cy="1828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67" name="Line 20"/>
            <p:cNvSpPr/>
            <p:nvPr/>
          </p:nvSpPr>
          <p:spPr>
            <a:xfrm flipH="1">
              <a:off x="2590920" y="1523880"/>
              <a:ext cx="1676160" cy="2667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68" name="Group 21"/>
          <p:cNvGrpSpPr/>
          <p:nvPr/>
        </p:nvGrpSpPr>
        <p:grpSpPr>
          <a:xfrm>
            <a:off x="2895480" y="1447920"/>
            <a:ext cx="3733920" cy="2514600"/>
            <a:chOff x="2895480" y="1447920"/>
            <a:chExt cx="3733920" cy="2514600"/>
          </a:xfrm>
        </p:grpSpPr>
        <p:sp>
          <p:nvSpPr>
            <p:cNvPr id="469" name="Line 22"/>
            <p:cNvSpPr/>
            <p:nvPr/>
          </p:nvSpPr>
          <p:spPr>
            <a:xfrm flipH="1">
              <a:off x="2895480" y="1447920"/>
              <a:ext cx="3200400" cy="2438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70" name="Line 23"/>
            <p:cNvSpPr/>
            <p:nvPr/>
          </p:nvSpPr>
          <p:spPr>
            <a:xfrm flipH="1">
              <a:off x="2971800" y="2514600"/>
              <a:ext cx="365760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71" name="Group 24"/>
          <p:cNvGrpSpPr/>
          <p:nvPr/>
        </p:nvGrpSpPr>
        <p:grpSpPr>
          <a:xfrm>
            <a:off x="2895480" y="1523880"/>
            <a:ext cx="3733920" cy="2895840"/>
            <a:chOff x="2895480" y="1523880"/>
            <a:chExt cx="3733920" cy="2895840"/>
          </a:xfrm>
        </p:grpSpPr>
        <p:sp>
          <p:nvSpPr>
            <p:cNvPr id="472" name="Line 25"/>
            <p:cNvSpPr/>
            <p:nvPr/>
          </p:nvSpPr>
          <p:spPr>
            <a:xfrm flipH="1">
              <a:off x="2895480" y="1523880"/>
              <a:ext cx="3733920" cy="281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73" name="Line 26"/>
            <p:cNvSpPr/>
            <p:nvPr/>
          </p:nvSpPr>
          <p:spPr>
            <a:xfrm flipH="1">
              <a:off x="2895480" y="3733920"/>
              <a:ext cx="36576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74" name="Group 27"/>
          <p:cNvGrpSpPr/>
          <p:nvPr/>
        </p:nvGrpSpPr>
        <p:grpSpPr>
          <a:xfrm>
            <a:off x="2742840" y="1523880"/>
            <a:ext cx="4267080" cy="3505320"/>
            <a:chOff x="2742840" y="1523880"/>
            <a:chExt cx="4267080" cy="3505320"/>
          </a:xfrm>
        </p:grpSpPr>
        <p:sp>
          <p:nvSpPr>
            <p:cNvPr id="475" name="Line 28"/>
            <p:cNvSpPr/>
            <p:nvPr/>
          </p:nvSpPr>
          <p:spPr>
            <a:xfrm flipH="1">
              <a:off x="2742840" y="1523880"/>
              <a:ext cx="4267080" cy="3103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76" name="Line 29"/>
            <p:cNvSpPr/>
            <p:nvPr/>
          </p:nvSpPr>
          <p:spPr>
            <a:xfrm flipH="1" flipV="1">
              <a:off x="2819520" y="4648320"/>
              <a:ext cx="36576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77" name="Group 30"/>
          <p:cNvGrpSpPr/>
          <p:nvPr/>
        </p:nvGrpSpPr>
        <p:grpSpPr>
          <a:xfrm>
            <a:off x="2438280" y="1523880"/>
            <a:ext cx="5105520" cy="4724640"/>
            <a:chOff x="2438280" y="1523880"/>
            <a:chExt cx="5105520" cy="4724640"/>
          </a:xfrm>
        </p:grpSpPr>
        <p:sp>
          <p:nvSpPr>
            <p:cNvPr id="478" name="Line 31"/>
            <p:cNvSpPr/>
            <p:nvPr/>
          </p:nvSpPr>
          <p:spPr>
            <a:xfrm flipH="1">
              <a:off x="2438280" y="1523880"/>
              <a:ext cx="5105520" cy="32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79" name="Line 32"/>
            <p:cNvSpPr/>
            <p:nvPr/>
          </p:nvSpPr>
          <p:spPr>
            <a:xfrm flipH="1" flipV="1">
              <a:off x="2514600" y="4800600"/>
              <a:ext cx="373392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sp>
        <p:nvSpPr>
          <p:cNvPr id="480" name="Text Box 33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Foot Quiz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82" name="Group 3"/>
          <p:cNvGrpSpPr/>
          <p:nvPr/>
        </p:nvGrpSpPr>
        <p:grpSpPr>
          <a:xfrm>
            <a:off x="839880" y="914400"/>
            <a:ext cx="7030080" cy="4650840"/>
            <a:chOff x="839880" y="914400"/>
            <a:chExt cx="7030080" cy="4650840"/>
          </a:xfrm>
        </p:grpSpPr>
        <p:pic>
          <p:nvPicPr>
            <p:cNvPr id="483" name="Picture 4" descr=""/>
            <p:cNvPicPr/>
            <p:nvPr/>
          </p:nvPicPr>
          <p:blipFill>
            <a:blip r:embed="rId1"/>
            <a:stretch/>
          </p:blipFill>
          <p:spPr>
            <a:xfrm>
              <a:off x="1523880" y="2133720"/>
              <a:ext cx="548640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Text Box 5"/>
            <p:cNvSpPr/>
            <p:nvPr/>
          </p:nvSpPr>
          <p:spPr>
            <a:xfrm>
              <a:off x="746964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5" name="Text Box 6"/>
            <p:cNvSpPr/>
            <p:nvPr/>
          </p:nvSpPr>
          <p:spPr>
            <a:xfrm>
              <a:off x="5488200" y="5105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6" name="Text Box 7"/>
            <p:cNvSpPr/>
            <p:nvPr/>
          </p:nvSpPr>
          <p:spPr>
            <a:xfrm>
              <a:off x="2973600" y="4724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7" name="Text Box 8"/>
            <p:cNvSpPr/>
            <p:nvPr/>
          </p:nvSpPr>
          <p:spPr>
            <a:xfrm>
              <a:off x="1373760" y="510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83988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9" name="Text Box 10"/>
            <p:cNvSpPr/>
            <p:nvPr/>
          </p:nvSpPr>
          <p:spPr>
            <a:xfrm>
              <a:off x="1754640" y="1447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0" name="Text Box 11"/>
            <p:cNvSpPr/>
            <p:nvPr/>
          </p:nvSpPr>
          <p:spPr>
            <a:xfrm>
              <a:off x="2593080" y="1066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1" name="Text Box 12"/>
            <p:cNvSpPr/>
            <p:nvPr/>
          </p:nvSpPr>
          <p:spPr>
            <a:xfrm>
              <a:off x="4802760" y="914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2" name="Text Box 13"/>
            <p:cNvSpPr/>
            <p:nvPr/>
          </p:nvSpPr>
          <p:spPr>
            <a:xfrm>
              <a:off x="5793120" y="1219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3" name="Line 14"/>
            <p:cNvSpPr/>
            <p:nvPr/>
          </p:nvSpPr>
          <p:spPr>
            <a:xfrm>
              <a:off x="2895480" y="1447920"/>
              <a:ext cx="12193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4" name="Line 15"/>
            <p:cNvSpPr/>
            <p:nvPr/>
          </p:nvSpPr>
          <p:spPr>
            <a:xfrm flipH="1">
              <a:off x="4114800" y="1295280"/>
              <a:ext cx="838080" cy="19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5" name="Line 16"/>
            <p:cNvSpPr/>
            <p:nvPr/>
          </p:nvSpPr>
          <p:spPr>
            <a:xfrm flipH="1">
              <a:off x="4114800" y="1600200"/>
              <a:ext cx="1752480" cy="19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6" name="Line 17"/>
            <p:cNvSpPr/>
            <p:nvPr/>
          </p:nvSpPr>
          <p:spPr>
            <a:xfrm flipV="1">
              <a:off x="3200400" y="3657240"/>
              <a:ext cx="45720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7" name="Line 18"/>
            <p:cNvSpPr/>
            <p:nvPr/>
          </p:nvSpPr>
          <p:spPr>
            <a:xfrm flipV="1">
              <a:off x="1600200" y="3428640"/>
              <a:ext cx="60948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8" name="Line 19"/>
            <p:cNvSpPr/>
            <p:nvPr/>
          </p:nvSpPr>
          <p:spPr>
            <a:xfrm>
              <a:off x="2057400" y="1752480"/>
              <a:ext cx="160020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9" name="Line 20"/>
            <p:cNvSpPr/>
            <p:nvPr/>
          </p:nvSpPr>
          <p:spPr>
            <a:xfrm>
              <a:off x="1371600" y="2209680"/>
              <a:ext cx="152388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0" name="AutoShape 21"/>
            <p:cNvSpPr/>
            <p:nvPr/>
          </p:nvSpPr>
          <p:spPr>
            <a:xfrm>
              <a:off x="6934320" y="243828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1" name="Line 22"/>
            <p:cNvSpPr/>
            <p:nvPr/>
          </p:nvSpPr>
          <p:spPr>
            <a:xfrm flipH="1" flipV="1">
              <a:off x="5334120" y="2743200"/>
              <a:ext cx="304560" cy="220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2" name="Line 23"/>
            <p:cNvSpPr/>
            <p:nvPr/>
          </p:nvSpPr>
          <p:spPr>
            <a:xfrm flipH="1" flipV="1">
              <a:off x="5181480" y="3124080"/>
              <a:ext cx="45720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3" name="Line 24"/>
            <p:cNvSpPr/>
            <p:nvPr/>
          </p:nvSpPr>
          <p:spPr>
            <a:xfrm flipH="1" flipV="1">
              <a:off x="5105160" y="3504960"/>
              <a:ext cx="533160" cy="144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4" name="Line 25"/>
            <p:cNvSpPr/>
            <p:nvPr/>
          </p:nvSpPr>
          <p:spPr>
            <a:xfrm flipH="1" flipV="1">
              <a:off x="4876920" y="3733920"/>
              <a:ext cx="76176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5" name="Line 26"/>
            <p:cNvSpPr/>
            <p:nvPr/>
          </p:nvSpPr>
          <p:spPr>
            <a:xfrm flipH="1" flipV="1">
              <a:off x="4495320" y="3962160"/>
              <a:ext cx="114300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sp>
        <p:nvSpPr>
          <p:cNvPr id="506" name="Text Box 27"/>
          <p:cNvSpPr/>
          <p:nvPr/>
        </p:nvSpPr>
        <p:spPr>
          <a:xfrm>
            <a:off x="129960" y="6431040"/>
            <a:ext cx="53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swers: Next Slide; for Drill Click Back &amp; Forth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507" name="Text Box 28"/>
          <p:cNvSpPr/>
          <p:nvPr/>
        </p:nvSpPr>
        <p:spPr>
          <a:xfrm>
            <a:off x="6398280" y="632448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ght, Superior Vie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594324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Foot Quiz Answer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09" name="Group 3"/>
          <p:cNvGrpSpPr/>
          <p:nvPr/>
        </p:nvGrpSpPr>
        <p:grpSpPr>
          <a:xfrm>
            <a:off x="153720" y="380880"/>
            <a:ext cx="8876160" cy="5260320"/>
            <a:chOff x="153720" y="380880"/>
            <a:chExt cx="8876160" cy="5260320"/>
          </a:xfrm>
        </p:grpSpPr>
        <p:pic>
          <p:nvPicPr>
            <p:cNvPr id="510" name="Picture 4" descr=""/>
            <p:cNvPicPr/>
            <p:nvPr/>
          </p:nvPicPr>
          <p:blipFill>
            <a:blip r:embed="rId1"/>
            <a:stretch/>
          </p:blipFill>
          <p:spPr>
            <a:xfrm>
              <a:off x="1523880" y="2133720"/>
              <a:ext cx="548640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5"/>
            <p:cNvSpPr/>
            <p:nvPr/>
          </p:nvSpPr>
          <p:spPr>
            <a:xfrm>
              <a:off x="7239960" y="304812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. Phalanges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2" name="Text Box 6"/>
            <p:cNvSpPr/>
            <p:nvPr/>
          </p:nvSpPr>
          <p:spPr>
            <a:xfrm>
              <a:off x="5486040" y="510552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. Metatarsals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3" name="Text Box 7"/>
            <p:cNvSpPr/>
            <p:nvPr/>
          </p:nvSpPr>
          <p:spPr>
            <a:xfrm>
              <a:off x="2973240" y="47242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. Cuboid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4" name="Text Box 8"/>
            <p:cNvSpPr/>
            <p:nvPr/>
          </p:nvSpPr>
          <p:spPr>
            <a:xfrm>
              <a:off x="839520" y="51814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. Calcaneus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5" name="Text Box 9"/>
            <p:cNvSpPr/>
            <p:nvPr/>
          </p:nvSpPr>
          <p:spPr>
            <a:xfrm>
              <a:off x="153720" y="19908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. Talus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6" name="Text Box 10"/>
            <p:cNvSpPr/>
            <p:nvPr/>
          </p:nvSpPr>
          <p:spPr>
            <a:xfrm>
              <a:off x="838800" y="138096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. Navicular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2133720" y="533520"/>
              <a:ext cx="1936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. Medial 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uneiform (1)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8" name="Text Box 12"/>
            <p:cNvSpPr/>
            <p:nvPr/>
          </p:nvSpPr>
          <p:spPr>
            <a:xfrm>
              <a:off x="4266720" y="380880"/>
              <a:ext cx="209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. Intermediate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uneiform (2)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9" name="Text Box 13"/>
            <p:cNvSpPr/>
            <p:nvPr/>
          </p:nvSpPr>
          <p:spPr>
            <a:xfrm>
              <a:off x="5865840" y="1371600"/>
              <a:ext cx="31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. Lateral Cuneiform (3)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0" name="Line 14"/>
            <p:cNvSpPr/>
            <p:nvPr/>
          </p:nvSpPr>
          <p:spPr>
            <a:xfrm>
              <a:off x="2895480" y="1447920"/>
              <a:ext cx="12193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1" name="Line 15"/>
            <p:cNvSpPr/>
            <p:nvPr/>
          </p:nvSpPr>
          <p:spPr>
            <a:xfrm flipH="1">
              <a:off x="4114800" y="1295280"/>
              <a:ext cx="838080" cy="19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2" name="Line 16"/>
            <p:cNvSpPr/>
            <p:nvPr/>
          </p:nvSpPr>
          <p:spPr>
            <a:xfrm flipH="1">
              <a:off x="4114800" y="1600200"/>
              <a:ext cx="1752480" cy="19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3" name="Line 17"/>
            <p:cNvSpPr/>
            <p:nvPr/>
          </p:nvSpPr>
          <p:spPr>
            <a:xfrm flipV="1">
              <a:off x="3200400" y="3657240"/>
              <a:ext cx="45720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4" name="Line 18"/>
            <p:cNvSpPr/>
            <p:nvPr/>
          </p:nvSpPr>
          <p:spPr>
            <a:xfrm flipV="1">
              <a:off x="1600200" y="3428640"/>
              <a:ext cx="60948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5" name="Line 19"/>
            <p:cNvSpPr/>
            <p:nvPr/>
          </p:nvSpPr>
          <p:spPr>
            <a:xfrm>
              <a:off x="2057400" y="1752480"/>
              <a:ext cx="160020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6" name="Line 20"/>
            <p:cNvSpPr/>
            <p:nvPr/>
          </p:nvSpPr>
          <p:spPr>
            <a:xfrm>
              <a:off x="1371600" y="2209680"/>
              <a:ext cx="152388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7" name="AutoShape 21"/>
            <p:cNvSpPr/>
            <p:nvPr/>
          </p:nvSpPr>
          <p:spPr>
            <a:xfrm>
              <a:off x="6934320" y="243828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8" name="Line 22"/>
            <p:cNvSpPr/>
            <p:nvPr/>
          </p:nvSpPr>
          <p:spPr>
            <a:xfrm flipH="1" flipV="1">
              <a:off x="5334120" y="2743200"/>
              <a:ext cx="304560" cy="220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9" name="Line 23"/>
            <p:cNvSpPr/>
            <p:nvPr/>
          </p:nvSpPr>
          <p:spPr>
            <a:xfrm flipH="1" flipV="1">
              <a:off x="5181480" y="3124080"/>
              <a:ext cx="45720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30" name="Line 24"/>
            <p:cNvSpPr/>
            <p:nvPr/>
          </p:nvSpPr>
          <p:spPr>
            <a:xfrm flipH="1" flipV="1">
              <a:off x="5105160" y="3504960"/>
              <a:ext cx="533160" cy="144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31" name="Line 25"/>
            <p:cNvSpPr/>
            <p:nvPr/>
          </p:nvSpPr>
          <p:spPr>
            <a:xfrm flipH="1" flipV="1">
              <a:off x="4876920" y="3733920"/>
              <a:ext cx="76176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32" name="Line 26"/>
            <p:cNvSpPr/>
            <p:nvPr/>
          </p:nvSpPr>
          <p:spPr>
            <a:xfrm flipH="1" flipV="1">
              <a:off x="4495320" y="3962160"/>
              <a:ext cx="114300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sp>
        <p:nvSpPr>
          <p:cNvPr id="533" name="Text Box 27"/>
          <p:cNvSpPr/>
          <p:nvPr/>
        </p:nvSpPr>
        <p:spPr>
          <a:xfrm>
            <a:off x="6321960" y="632448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ght, Superior Vie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5" descr="ankbone"/>
          <p:cNvPicPr/>
          <p:nvPr/>
        </p:nvPicPr>
        <p:blipFill>
          <a:blip r:embed="rId1"/>
          <a:stretch/>
        </p:blipFill>
        <p:spPr>
          <a:xfrm>
            <a:off x="2749680" y="1496880"/>
            <a:ext cx="3306600" cy="490392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Futura Md BT"/>
              </a:rPr>
              <a:t>BONES OF THE ANKLE JOI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Poornut"/>
              </a:rPr>
              <a:t>Talocrural joint</a:t>
            </a:r>
            <a:r>
              <a:rPr b="0" lang="en-US" sz="4400" spc="-1" strike="noStrike">
                <a:solidFill>
                  <a:srgbClr val="ffffcc"/>
                </a:solidFill>
                <a:latin typeface="Poornut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omposed of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ateral Malleolus (Distal Portion of Fibul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edial Malleolus (Distal portion of Tibi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l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Picture 10" descr="x-ray%2520talocrural%2520joint"/>
          <p:cNvPicPr/>
          <p:nvPr/>
        </p:nvPicPr>
        <p:blipFill>
          <a:blip r:embed="rId1"/>
          <a:stretch/>
        </p:blipFill>
        <p:spPr>
          <a:xfrm>
            <a:off x="4952880" y="1295280"/>
            <a:ext cx="3781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Poornut"/>
              </a:rPr>
              <a:t>Talocrural joint “cont.”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Md BT"/>
              </a:rPr>
              <a:t>JOINT MO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Md BT"/>
              </a:rPr>
              <a:t>PLANTAR FLEX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Md BT"/>
              </a:rPr>
              <a:t>DORSIFLEX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1" name="Picture 8" descr="plantarflex"/>
          <p:cNvPicPr/>
          <p:nvPr/>
        </p:nvPicPr>
        <p:blipFill>
          <a:blip r:embed="rId1"/>
          <a:stretch/>
        </p:blipFill>
        <p:spPr>
          <a:xfrm>
            <a:off x="4572000" y="1371600"/>
            <a:ext cx="4191120" cy="34257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Plantar-Flexion-for-web"/>
          <p:cNvPicPr/>
          <p:nvPr/>
        </p:nvPicPr>
        <p:blipFill>
          <a:blip r:embed="rId2"/>
          <a:stretch/>
        </p:blipFill>
        <p:spPr>
          <a:xfrm>
            <a:off x="1600200" y="4876920"/>
            <a:ext cx="160020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2:55:28Z</dcterms:created>
  <dc:creator>Gary Mac Donald</dc:creator>
  <dc:description/>
  <dc:language>en-US</dc:language>
  <cp:lastModifiedBy>Andrew S. Hansell</cp:lastModifiedBy>
  <dcterms:modified xsi:type="dcterms:W3CDTF">2014-04-07T12:58:36Z</dcterms:modified>
  <cp:revision>13</cp:revision>
  <dc:subject/>
  <dc:title>THE ANKLE &amp; LOWER LEG</dc:title>
</cp:coreProperties>
</file>