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90DA-8A7A-40E2-9912-829808EF3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B7DB-35D0-4FC8-954A-7FBA07FC0D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D38F-29AD-47DC-BFB3-19400B6E59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974F-1E49-4AEA-902E-6F24A5654A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A700-D3FB-4626-8BE4-D29710E096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BC23-9F89-4667-8D80-985CC226E9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064E-2F28-4B22-A689-1A5F64D90D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E8FA-940F-43EA-98DC-1A4958AFDF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9291-F51B-4482-B9A1-A38B317473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7F72-BF24-4F91-B58F-9C3EFAE09E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1E7C-8635-45A5-AFAC-1A9E7199BB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5AD4-6D95-4694-94F2-A60F83680C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BC3C-4303-40C3-87DC-D762A972EF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ior View of 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emomic is for tarsals only; does not include metatarsals or phal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h slide show button at bottom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7EAB-F4A5-41B6-8D40-0466D91D63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ior View of R 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D00B-BC5C-40AB-B846-A9D43799EC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ior View of 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7DD3-76B9-4581-845F-0A3884D9AA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7283-489B-4B15-AF9E-D89AAC6E2E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6E7E-8439-44D5-A1F3-6BB970DF3C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A75-9438-49E6-8583-EEC022CC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8425-5953-480A-A3FD-DB921B25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462-0724-42C7-B46F-3EA2E086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155A-07C0-4BC1-ADD5-FAA86FE4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0250-23DB-43AE-A717-F4996FC9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5FE1-A4E5-4A8F-A68B-E6462B2A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44DE-7AF8-4071-9C83-A6402004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D23E-93A5-4201-A58B-B700895A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09A5-3B2E-4059-AF7C-772CCCC6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07DC-88B4-46B5-9803-4B86C8C5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72F6-DCC0-42B2-BA2B-06476D7E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2FA-6FBB-4386-BA97-FBA0F702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5550-CAD6-4AF5-AC0B-11269F29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22D4-74E8-472D-B4B7-4A0E8687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1431-DAF0-47BD-898E-1360B796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59BB-B516-404D-B169-6A7BB65B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FE96-D4EA-4AB2-B67B-6A68CD36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E97F-77DC-4CA6-8957-F939BF7C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2E9-0223-4AB2-BE41-7D81F136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3F3-3AFA-4C76-BECF-EB3FC8D0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7527-031E-4876-96D2-9FF672BA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FDE-4FD6-4F43-B6B3-FD92899F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5EED-6B77-4F92-A294-35C7AD6F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E9AE-6175-4F32-9797-3EA328F0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2901-D444-49CB-B624-D8BD7B7F72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11DC-5B38-40A3-90B8-58328E888EC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6/Gray354.png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rad.washington.edu/academics/academic-sections/msk/muscle-atlas/lower-body/flexor-digitorum-longus/atlasImage_large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rad.washington.edu/academics/academic-sections/msk/muscle-atlas/lower-body/flexor-hallucis-longus/atlasImage_large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Porky's"/>
              </a:rPr>
              <a:t>THE ANKLE &amp; LOWER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Porky's"/>
              </a:rPr>
              <a:t>LE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Subtalar Joint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LCANE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L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5" name="Picture 7" descr="subtalar"/>
          <p:cNvPicPr/>
          <p:nvPr/>
        </p:nvPicPr>
        <p:blipFill>
          <a:blip r:embed="rId1"/>
          <a:stretch/>
        </p:blipFill>
        <p:spPr>
          <a:xfrm>
            <a:off x="380880" y="3962520"/>
            <a:ext cx="39434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Pussycat"/>
              </a:rPr>
              <a:t>SUBTALAR JOINT (Cont.)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OINT MO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VER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VER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8" name="Picture 7" descr="Inversion"/>
          <p:cNvPicPr/>
          <p:nvPr/>
        </p:nvPicPr>
        <p:blipFill>
          <a:blip r:embed="rId1"/>
          <a:stretch/>
        </p:blipFill>
        <p:spPr>
          <a:xfrm>
            <a:off x="1139760" y="1143000"/>
            <a:ext cx="2298600" cy="2819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8" descr="Eversion"/>
          <p:cNvPicPr/>
          <p:nvPr/>
        </p:nvPicPr>
        <p:blipFill>
          <a:blip r:embed="rId2"/>
          <a:stretch/>
        </p:blipFill>
        <p:spPr>
          <a:xfrm>
            <a:off x="1143000" y="3886200"/>
            <a:ext cx="22892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tal Tib-Fib Joi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38894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true mo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gaments prevent the tibia and fibula from spreading apa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Picture 5" descr="distal lower extremity syndesmosis (DLES)"/>
          <p:cNvPicPr/>
          <p:nvPr/>
        </p:nvPicPr>
        <p:blipFill>
          <a:blip r:embed="rId1"/>
          <a:stretch/>
        </p:blipFill>
        <p:spPr>
          <a:xfrm>
            <a:off x="5029200" y="2209680"/>
            <a:ext cx="33336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ussycat"/>
              </a:rPr>
              <a:t>LIGAMENTS AND CONNECTIVE TISSU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INTEROSSEOUS MEMBRA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NNECTS TIBIA AND FIB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5" name="Picture 10" descr="drryan26d"/>
          <p:cNvPicPr/>
          <p:nvPr/>
        </p:nvPicPr>
        <p:blipFill>
          <a:blip r:embed="rId1"/>
          <a:stretch/>
        </p:blipFill>
        <p:spPr>
          <a:xfrm>
            <a:off x="4495680" y="1905120"/>
            <a:ext cx="44103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ussycat"/>
              </a:rPr>
              <a:t>LIGAMENTS AND CONNECTIVE TISSU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486400" y="1599840"/>
            <a:ext cx="33559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toid lig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al aspect of ank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vents ever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strong rarely torn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8" name="Picture 7" descr="Image:Gray354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76520"/>
            <a:ext cx="5238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ussycat"/>
              </a:rPr>
              <a:t>LIGAMENT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LATERAL LIGAM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 TALOFIB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ERIOR TALOFIB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CANEOFIB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VENT INVER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2" name="Picture 10" descr="ankle_sprain_anat01"/>
          <p:cNvPicPr/>
          <p:nvPr/>
        </p:nvPicPr>
        <p:blipFill>
          <a:blip r:embed="rId1"/>
          <a:stretch/>
        </p:blipFill>
        <p:spPr>
          <a:xfrm>
            <a:off x="4800600" y="0"/>
            <a:ext cx="3809880" cy="31719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2" descr="ankle_sprain_anat02"/>
          <p:cNvPicPr/>
          <p:nvPr/>
        </p:nvPicPr>
        <p:blipFill>
          <a:blip r:embed="rId2"/>
          <a:stretch/>
        </p:blipFill>
        <p:spPr>
          <a:xfrm>
            <a:off x="4419720" y="3505320"/>
            <a:ext cx="4724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Pussycat"/>
              </a:rPr>
              <a:t>LIGAMENTS AND CONNECTIVE TISSU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terior and Posterior TIBIOFIBULAR liga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DGE THE TIBIA AND FIB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6" name="Picture 5" descr="syndesmosis"/>
          <p:cNvPicPr/>
          <p:nvPr/>
        </p:nvPicPr>
        <p:blipFill>
          <a:blip r:embed="rId1"/>
          <a:stretch/>
        </p:blipFill>
        <p:spPr>
          <a:xfrm>
            <a:off x="1981080" y="35812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S OF ANKLE AND LOWER LE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S ON THE ANTERIOR S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RSIFL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NSOR DIGITORUM LONGUS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NSOR HALLUCIS LONGUS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BIALIS ANTERIOR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S OF ANKLE AND LOWER LE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ERFICIAL POSTERIOR COMPAR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ARFL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STROCNEMI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S OF ANKLE AND LOWER LE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ERAL COMPAR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ONEUS LO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ONEUS BRE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ower Leg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3890880" y="684360"/>
            <a:ext cx="1362240" cy="548784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4"/>
          <p:cNvSpPr/>
          <p:nvPr/>
        </p:nvSpPr>
        <p:spPr>
          <a:xfrm>
            <a:off x="2134080" y="6858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5869080" y="3429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296000" y="30481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5638320" y="251460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bial tuberosity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6078600" y="53640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lus (tarsal bone)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56995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malleolus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15847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malleolus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170400" y="160020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condyle of 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150480" y="220968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condyle of 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6169320" y="632448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ght Leg, Anterior Vie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132480" y="14018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condyle of 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5923800" y="944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condyle of 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2971800" y="838080"/>
            <a:ext cx="1371600" cy="76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9" name="Line 18"/>
          <p:cNvSpPr/>
          <p:nvPr/>
        </p:nvSpPr>
        <p:spPr>
          <a:xfrm flipV="1">
            <a:off x="2819520" y="1447560"/>
            <a:ext cx="1447560" cy="15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0" name="Line 19"/>
          <p:cNvSpPr/>
          <p:nvPr/>
        </p:nvSpPr>
        <p:spPr>
          <a:xfrm flipH="1">
            <a:off x="4723920" y="1143000"/>
            <a:ext cx="121932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1" name="Line 20"/>
          <p:cNvSpPr/>
          <p:nvPr/>
        </p:nvSpPr>
        <p:spPr>
          <a:xfrm flipH="1">
            <a:off x="4648320" y="365760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2" name="Line 21"/>
          <p:cNvSpPr/>
          <p:nvPr/>
        </p:nvSpPr>
        <p:spPr>
          <a:xfrm flipV="1">
            <a:off x="2666880" y="1599840"/>
            <a:ext cx="16765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3" name="Line 22"/>
          <p:cNvSpPr/>
          <p:nvPr/>
        </p:nvSpPr>
        <p:spPr>
          <a:xfrm flipH="1" flipV="1">
            <a:off x="4724280" y="1599840"/>
            <a:ext cx="14479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4" name="Line 23"/>
          <p:cNvSpPr/>
          <p:nvPr/>
        </p:nvSpPr>
        <p:spPr>
          <a:xfrm flipH="1" flipV="1">
            <a:off x="4571640" y="1905120"/>
            <a:ext cx="106668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5" name="Line 24"/>
          <p:cNvSpPr/>
          <p:nvPr/>
        </p:nvSpPr>
        <p:spPr>
          <a:xfrm flipH="1">
            <a:off x="5028840" y="4876920"/>
            <a:ext cx="6858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6" name="Line 25"/>
          <p:cNvSpPr/>
          <p:nvPr/>
        </p:nvSpPr>
        <p:spPr>
          <a:xfrm flipV="1">
            <a:off x="2057400" y="3200400"/>
            <a:ext cx="2286000" cy="763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7" name="Line 26"/>
          <p:cNvSpPr/>
          <p:nvPr/>
        </p:nvSpPr>
        <p:spPr>
          <a:xfrm>
            <a:off x="3505320" y="4952880"/>
            <a:ext cx="91440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8" name="Line 27"/>
          <p:cNvSpPr/>
          <p:nvPr/>
        </p:nvSpPr>
        <p:spPr>
          <a:xfrm flipH="1" flipV="1">
            <a:off x="4800600" y="5486400"/>
            <a:ext cx="1295280" cy="763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9" name="Text Box 28"/>
          <p:cNvSpPr/>
          <p:nvPr/>
        </p:nvSpPr>
        <p:spPr>
          <a:xfrm>
            <a:off x="6080400" y="33480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ee cap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0" name="Line 29"/>
          <p:cNvSpPr/>
          <p:nvPr/>
        </p:nvSpPr>
        <p:spPr>
          <a:xfrm flipH="1">
            <a:off x="4571640" y="609480"/>
            <a:ext cx="152388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S OF ANKLE AND LOWER LE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EP POSTERIOR COMPAR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ER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BIALIS POSTERIOR MUS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OR DIGITORUM LO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OR HALLUCIS LO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95264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  <a:ea typeface="Times New Roman"/>
              </a:rPr>
              <a:t>Muscles of the Foot, Ankle, Lower Le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astrocnemi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ri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edial hea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edial femoral condyl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ateral hea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lateral condy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Achilles tendon, inserting on the middle 1/3 of the posterior calcaneal surf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werful plantar flexor of ank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nerv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bial nerve (S1, S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0" name="Picture 5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e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bular head,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lles tendon, inserting on the middle 1/3 of the posterior calcaneal su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erful plantar flexor of ank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bial nerve (S1, S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3" name="Picture 4" descr="Soleu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lantar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racondylar line of distal fem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ddle 1/3 of the posterior calcaneal surface, just medial to Achilles tend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tar flexor of ankle; also flexes kn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bial nerve (L5, S1, S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6" name="Picture 4" descr="plantari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3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2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chilles Tend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1"/>
          <a:stretch/>
        </p:blipFill>
        <p:spPr>
          <a:xfrm>
            <a:off x="3224160" y="1600200"/>
            <a:ext cx="26938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ibialis Posterior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al fibul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perficial sl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serts on the tuberosity of the navicular bone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eper sl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antar sufraces of metatarsals 2 - 4 and second cuneif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ncipal invertor of fo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bial nerve (L4, L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2" name="Picture 5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exor Digitorum Long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erior surface of tibi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lits into four slips these slips then insert on plantar surface of bases of 2nd - 5th distal phal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exes toes 2 - 5; also helps inversion of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bial ner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6" name="Picture 5" descr="Flexor Digitorum Long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828800"/>
            <a:ext cx="3086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exor Hallucis Long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rior 2/3 of posterior surface of fibul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tar surface of base of distal phalanx of great to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exes great toe, helps to invert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bial ner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Picture 5" descr="Flexor Hallucis Long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0440" y="1676520"/>
            <a:ext cx="4003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7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0" dur="2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3" dur="2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6" dur="2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ibialis Anterior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ral condyle of tibi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st cuneiform and on base of first metatars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rsiflexor of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peroneal nerve (L4, L5, S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4" name="Picture 5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ower Leg2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3890880" y="684360"/>
            <a:ext cx="1362240" cy="54878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2134080" y="6858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5869080" y="3429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1296000" y="30481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5638320" y="251460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bial tuberosity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6078600" y="53640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lus (tarsal bone)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56995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malleolus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15847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malleolus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6170400" y="160020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condyle of 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150480" y="220968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condyle of 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6169320" y="632448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ght Leg, Anterior Vie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132480" y="14018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condyle of 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5923800" y="944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condyle of 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5" name="Text Box 16"/>
          <p:cNvSpPr/>
          <p:nvPr/>
        </p:nvSpPr>
        <p:spPr>
          <a:xfrm>
            <a:off x="6080400" y="33480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ee cap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grpSp>
        <p:nvGrpSpPr>
          <p:cNvPr id="436" name="Group 17"/>
          <p:cNvGrpSpPr/>
          <p:nvPr/>
        </p:nvGrpSpPr>
        <p:grpSpPr>
          <a:xfrm>
            <a:off x="2057400" y="609480"/>
            <a:ext cx="4114800" cy="4953240"/>
            <a:chOff x="2057400" y="609480"/>
            <a:chExt cx="4114800" cy="4953240"/>
          </a:xfrm>
        </p:grpSpPr>
        <p:sp>
          <p:nvSpPr>
            <p:cNvPr id="437" name="Line 18"/>
            <p:cNvSpPr/>
            <p:nvPr/>
          </p:nvSpPr>
          <p:spPr>
            <a:xfrm flipV="1">
              <a:off x="2971800" y="838080"/>
              <a:ext cx="1371600" cy="76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38" name="Line 19"/>
            <p:cNvSpPr/>
            <p:nvPr/>
          </p:nvSpPr>
          <p:spPr>
            <a:xfrm flipV="1">
              <a:off x="2819520" y="1447560"/>
              <a:ext cx="1447560" cy="152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 flipH="1">
              <a:off x="4723920" y="1143000"/>
              <a:ext cx="12193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0" name="Line 21"/>
            <p:cNvSpPr/>
            <p:nvPr/>
          </p:nvSpPr>
          <p:spPr>
            <a:xfrm flipH="1">
              <a:off x="4648320" y="36576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1" name="Line 22"/>
            <p:cNvSpPr/>
            <p:nvPr/>
          </p:nvSpPr>
          <p:spPr>
            <a:xfrm flipV="1">
              <a:off x="2666880" y="1599840"/>
              <a:ext cx="167652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2" name="Line 23"/>
            <p:cNvSpPr/>
            <p:nvPr/>
          </p:nvSpPr>
          <p:spPr>
            <a:xfrm flipH="1" flipV="1">
              <a:off x="4724280" y="1599840"/>
              <a:ext cx="144792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3" name="Line 24"/>
            <p:cNvSpPr/>
            <p:nvPr/>
          </p:nvSpPr>
          <p:spPr>
            <a:xfrm flipH="1" flipV="1">
              <a:off x="4571640" y="1905120"/>
              <a:ext cx="106668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4" name="Line 25"/>
            <p:cNvSpPr/>
            <p:nvPr/>
          </p:nvSpPr>
          <p:spPr>
            <a:xfrm flipH="1">
              <a:off x="5028840" y="4876920"/>
              <a:ext cx="68580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5" name="Line 26"/>
            <p:cNvSpPr/>
            <p:nvPr/>
          </p:nvSpPr>
          <p:spPr>
            <a:xfrm flipV="1">
              <a:off x="2057400" y="3200400"/>
              <a:ext cx="2286000" cy="763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6" name="Line 27"/>
            <p:cNvSpPr/>
            <p:nvPr/>
          </p:nvSpPr>
          <p:spPr>
            <a:xfrm>
              <a:off x="3505320" y="4952880"/>
              <a:ext cx="914400" cy="3049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7" name="Line 28"/>
            <p:cNvSpPr/>
            <p:nvPr/>
          </p:nvSpPr>
          <p:spPr>
            <a:xfrm flipH="1" flipV="1">
              <a:off x="4800600" y="5486400"/>
              <a:ext cx="1295280" cy="763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8" name="Line 29"/>
            <p:cNvSpPr/>
            <p:nvPr/>
          </p:nvSpPr>
          <p:spPr>
            <a:xfrm flipH="1">
              <a:off x="4571640" y="609480"/>
              <a:ext cx="1523880" cy="533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69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tensor Hallucis Long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erior fibula and the interosseous membra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 and dorsal center of distal phalanx of great to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ds great toe and dorsiflexes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peroneal nerve (L4, L5, S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7" name="Picture 4" descr="exthalllongus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9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2" dur="20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5" dur="20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8" dur="20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d of fibul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lits into 4 tendon slips each of which insert on middle and distal phalang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d toes 2 - 5 and dorsiflexes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peroneal nerve (L4, L5, S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xtensor Digitorum Longus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10" name="Picture 4" descr="extdiglongus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5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0" dur="2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3" dur="2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6" dur="20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9" dur="20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roneus Terti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bular shaft surf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 of the fifth metatars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ert the fo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peroneal ner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4" name="Picture 5" descr="perontertius: "/>
          <p:cNvPicPr/>
          <p:nvPr/>
        </p:nvPicPr>
        <p:blipFill>
          <a:blip r:embed="rId1"/>
          <a:stretch/>
        </p:blipFill>
        <p:spPr>
          <a:xfrm>
            <a:off x="7324560" y="0"/>
            <a:ext cx="181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roneus Brev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rior 2/3 of lateral fibular surface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of 5th metatarsal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ts foot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ficial peroneal ner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7" name="Picture 4" descr="peroneusbrevis"/>
          <p:cNvPicPr/>
          <p:nvPr/>
        </p:nvPicPr>
        <p:blipFill>
          <a:blip r:embed="rId1"/>
          <a:stretch/>
        </p:blipFill>
        <p:spPr>
          <a:xfrm>
            <a:off x="6032520" y="0"/>
            <a:ext cx="311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roneus Long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d of fibul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st metatarsal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ts fo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ficial peroneal ner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0" name="Picture 4" descr="peroneuslongus"/>
          <p:cNvPicPr/>
          <p:nvPr/>
        </p:nvPicPr>
        <p:blipFill>
          <a:blip r:embed="rId1"/>
          <a:stretch/>
        </p:blipFill>
        <p:spPr>
          <a:xfrm>
            <a:off x="6688080" y="1447920"/>
            <a:ext cx="2455920" cy="54100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" descr="soleoffoot7"/>
          <p:cNvPicPr/>
          <p:nvPr/>
        </p:nvPicPr>
        <p:blipFill>
          <a:blip r:embed="rId2"/>
          <a:stretch/>
        </p:blipFill>
        <p:spPr>
          <a:xfrm>
            <a:off x="3886200" y="1581120"/>
            <a:ext cx="28764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3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6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9" dur="2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2" dur="2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Mnemonic for Learning Tarsal Bones: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5486400" cy="228744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451" name="Text Box 4"/>
          <p:cNvSpPr/>
          <p:nvPr/>
        </p:nvSpPr>
        <p:spPr>
          <a:xfrm>
            <a:off x="6474960" y="205740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ial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neiform (1)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6474960" y="335268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ermediate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neiform (2)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6398640" y="464832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eral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neiform (3)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3275280" y="1828800"/>
            <a:ext cx="189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icular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 boat</a:t>
            </a: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t sails on the Cs</a:t>
            </a: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52640" y="2057400"/>
            <a:ext cx="117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s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1143000" y="57150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caneus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6095880" y="5943600"/>
            <a:ext cx="17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boid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1063800" y="914400"/>
            <a:ext cx="6749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iger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C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ubs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      N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eed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     M I L C</a:t>
            </a:r>
            <a:endParaRPr b="0" lang="en-US" sz="4400" spc="-1" strike="noStrike">
              <a:solidFill>
                <a:srgbClr val="ffffff"/>
              </a:solidFill>
              <a:latin typeface="Poornut"/>
            </a:endParaRPr>
          </a:p>
        </p:txBody>
      </p:sp>
      <p:grpSp>
        <p:nvGrpSpPr>
          <p:cNvPr id="459" name="Group 12"/>
          <p:cNvGrpSpPr/>
          <p:nvPr/>
        </p:nvGrpSpPr>
        <p:grpSpPr>
          <a:xfrm>
            <a:off x="457200" y="1523880"/>
            <a:ext cx="1219320" cy="2743200"/>
            <a:chOff x="457200" y="1523880"/>
            <a:chExt cx="1219320" cy="2743200"/>
          </a:xfrm>
        </p:grpSpPr>
        <p:sp>
          <p:nvSpPr>
            <p:cNvPr id="460" name="Line 13"/>
            <p:cNvSpPr/>
            <p:nvPr/>
          </p:nvSpPr>
          <p:spPr>
            <a:xfrm>
              <a:off x="457200" y="2590920"/>
              <a:ext cx="114300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61" name="Line 14"/>
            <p:cNvSpPr/>
            <p:nvPr/>
          </p:nvSpPr>
          <p:spPr>
            <a:xfrm>
              <a:off x="1371600" y="1523880"/>
              <a:ext cx="30492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62" name="Group 15"/>
          <p:cNvGrpSpPr/>
          <p:nvPr/>
        </p:nvGrpSpPr>
        <p:grpSpPr>
          <a:xfrm>
            <a:off x="914400" y="1447920"/>
            <a:ext cx="1523880" cy="4572000"/>
            <a:chOff x="914400" y="1447920"/>
            <a:chExt cx="1523880" cy="4572000"/>
          </a:xfrm>
        </p:grpSpPr>
        <p:sp>
          <p:nvSpPr>
            <p:cNvPr id="463" name="Line 16"/>
            <p:cNvSpPr/>
            <p:nvPr/>
          </p:nvSpPr>
          <p:spPr>
            <a:xfrm flipH="1">
              <a:off x="2133720" y="1447920"/>
              <a:ext cx="304560" cy="3200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64" name="Line 17"/>
            <p:cNvSpPr/>
            <p:nvPr/>
          </p:nvSpPr>
          <p:spPr>
            <a:xfrm flipH="1" flipV="1">
              <a:off x="914400" y="4648320"/>
              <a:ext cx="380880" cy="137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65" name="Group 18"/>
          <p:cNvGrpSpPr/>
          <p:nvPr/>
        </p:nvGrpSpPr>
        <p:grpSpPr>
          <a:xfrm>
            <a:off x="2590920" y="1523880"/>
            <a:ext cx="1676160" cy="2667240"/>
            <a:chOff x="2590920" y="1523880"/>
            <a:chExt cx="1676160" cy="2667240"/>
          </a:xfrm>
        </p:grpSpPr>
        <p:sp>
          <p:nvSpPr>
            <p:cNvPr id="466" name="Line 19"/>
            <p:cNvSpPr/>
            <p:nvPr/>
          </p:nvSpPr>
          <p:spPr>
            <a:xfrm flipH="1">
              <a:off x="2590920" y="2209680"/>
              <a:ext cx="838080" cy="1828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67" name="Line 20"/>
            <p:cNvSpPr/>
            <p:nvPr/>
          </p:nvSpPr>
          <p:spPr>
            <a:xfrm flipH="1">
              <a:off x="2590920" y="1523880"/>
              <a:ext cx="1676160" cy="2667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68" name="Group 21"/>
          <p:cNvGrpSpPr/>
          <p:nvPr/>
        </p:nvGrpSpPr>
        <p:grpSpPr>
          <a:xfrm>
            <a:off x="2895480" y="1447920"/>
            <a:ext cx="3733920" cy="2514600"/>
            <a:chOff x="2895480" y="1447920"/>
            <a:chExt cx="3733920" cy="2514600"/>
          </a:xfrm>
        </p:grpSpPr>
        <p:sp>
          <p:nvSpPr>
            <p:cNvPr id="469" name="Line 22"/>
            <p:cNvSpPr/>
            <p:nvPr/>
          </p:nvSpPr>
          <p:spPr>
            <a:xfrm flipH="1">
              <a:off x="2895480" y="1447920"/>
              <a:ext cx="3200400" cy="2438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70" name="Line 23"/>
            <p:cNvSpPr/>
            <p:nvPr/>
          </p:nvSpPr>
          <p:spPr>
            <a:xfrm flipH="1">
              <a:off x="2971800" y="2514600"/>
              <a:ext cx="365760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71" name="Group 24"/>
          <p:cNvGrpSpPr/>
          <p:nvPr/>
        </p:nvGrpSpPr>
        <p:grpSpPr>
          <a:xfrm>
            <a:off x="2895480" y="1523880"/>
            <a:ext cx="3733920" cy="2895840"/>
            <a:chOff x="2895480" y="1523880"/>
            <a:chExt cx="3733920" cy="2895840"/>
          </a:xfrm>
        </p:grpSpPr>
        <p:sp>
          <p:nvSpPr>
            <p:cNvPr id="472" name="Line 25"/>
            <p:cNvSpPr/>
            <p:nvPr/>
          </p:nvSpPr>
          <p:spPr>
            <a:xfrm flipH="1">
              <a:off x="2895480" y="1523880"/>
              <a:ext cx="3733920" cy="281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73" name="Line 26"/>
            <p:cNvSpPr/>
            <p:nvPr/>
          </p:nvSpPr>
          <p:spPr>
            <a:xfrm flipH="1">
              <a:off x="2895480" y="3733920"/>
              <a:ext cx="36576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74" name="Group 27"/>
          <p:cNvGrpSpPr/>
          <p:nvPr/>
        </p:nvGrpSpPr>
        <p:grpSpPr>
          <a:xfrm>
            <a:off x="2742840" y="1523880"/>
            <a:ext cx="4267080" cy="3505320"/>
            <a:chOff x="2742840" y="1523880"/>
            <a:chExt cx="4267080" cy="3505320"/>
          </a:xfrm>
        </p:grpSpPr>
        <p:sp>
          <p:nvSpPr>
            <p:cNvPr id="475" name="Line 28"/>
            <p:cNvSpPr/>
            <p:nvPr/>
          </p:nvSpPr>
          <p:spPr>
            <a:xfrm flipH="1">
              <a:off x="2742840" y="1523880"/>
              <a:ext cx="4267080" cy="3103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76" name="Line 29"/>
            <p:cNvSpPr/>
            <p:nvPr/>
          </p:nvSpPr>
          <p:spPr>
            <a:xfrm flipH="1" flipV="1">
              <a:off x="2819520" y="4648320"/>
              <a:ext cx="36576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77" name="Group 30"/>
          <p:cNvGrpSpPr/>
          <p:nvPr/>
        </p:nvGrpSpPr>
        <p:grpSpPr>
          <a:xfrm>
            <a:off x="2438280" y="1523880"/>
            <a:ext cx="5105520" cy="4724640"/>
            <a:chOff x="2438280" y="1523880"/>
            <a:chExt cx="5105520" cy="4724640"/>
          </a:xfrm>
        </p:grpSpPr>
        <p:sp>
          <p:nvSpPr>
            <p:cNvPr id="478" name="Line 31"/>
            <p:cNvSpPr/>
            <p:nvPr/>
          </p:nvSpPr>
          <p:spPr>
            <a:xfrm flipH="1">
              <a:off x="2438280" y="1523880"/>
              <a:ext cx="5105520" cy="327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79" name="Line 32"/>
            <p:cNvSpPr/>
            <p:nvPr/>
          </p:nvSpPr>
          <p:spPr>
            <a:xfrm flipH="1" flipV="1">
              <a:off x="2514600" y="4800600"/>
              <a:ext cx="373392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sp>
        <p:nvSpPr>
          <p:cNvPr id="480" name="Text Box 33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Foot Quiz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82" name="Group 3"/>
          <p:cNvGrpSpPr/>
          <p:nvPr/>
        </p:nvGrpSpPr>
        <p:grpSpPr>
          <a:xfrm>
            <a:off x="839880" y="914400"/>
            <a:ext cx="7030080" cy="4650840"/>
            <a:chOff x="839880" y="914400"/>
            <a:chExt cx="7030080" cy="4650840"/>
          </a:xfrm>
        </p:grpSpPr>
        <p:pic>
          <p:nvPicPr>
            <p:cNvPr id="483" name="Picture 4" descr=""/>
            <p:cNvPicPr/>
            <p:nvPr/>
          </p:nvPicPr>
          <p:blipFill>
            <a:blip r:embed="rId1"/>
            <a:stretch/>
          </p:blipFill>
          <p:spPr>
            <a:xfrm>
              <a:off x="1523880" y="2133720"/>
              <a:ext cx="548640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Text Box 5"/>
            <p:cNvSpPr/>
            <p:nvPr/>
          </p:nvSpPr>
          <p:spPr>
            <a:xfrm>
              <a:off x="746964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5" name="Text Box 6"/>
            <p:cNvSpPr/>
            <p:nvPr/>
          </p:nvSpPr>
          <p:spPr>
            <a:xfrm>
              <a:off x="5488200" y="5105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6" name="Text Box 7"/>
            <p:cNvSpPr/>
            <p:nvPr/>
          </p:nvSpPr>
          <p:spPr>
            <a:xfrm>
              <a:off x="2973600" y="4724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7" name="Text Box 8"/>
            <p:cNvSpPr/>
            <p:nvPr/>
          </p:nvSpPr>
          <p:spPr>
            <a:xfrm>
              <a:off x="1373760" y="5105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8" name="Text Box 9"/>
            <p:cNvSpPr/>
            <p:nvPr/>
          </p:nvSpPr>
          <p:spPr>
            <a:xfrm>
              <a:off x="83988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9" name="Text Box 10"/>
            <p:cNvSpPr/>
            <p:nvPr/>
          </p:nvSpPr>
          <p:spPr>
            <a:xfrm>
              <a:off x="1754640" y="1447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0" name="Text Box 11"/>
            <p:cNvSpPr/>
            <p:nvPr/>
          </p:nvSpPr>
          <p:spPr>
            <a:xfrm>
              <a:off x="2593080" y="1066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1" name="Text Box 12"/>
            <p:cNvSpPr/>
            <p:nvPr/>
          </p:nvSpPr>
          <p:spPr>
            <a:xfrm>
              <a:off x="4802760" y="914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2" name="Text Box 13"/>
            <p:cNvSpPr/>
            <p:nvPr/>
          </p:nvSpPr>
          <p:spPr>
            <a:xfrm>
              <a:off x="5793120" y="1219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3" name="Line 14"/>
            <p:cNvSpPr/>
            <p:nvPr/>
          </p:nvSpPr>
          <p:spPr>
            <a:xfrm>
              <a:off x="2895480" y="1447920"/>
              <a:ext cx="12193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4" name="Line 15"/>
            <p:cNvSpPr/>
            <p:nvPr/>
          </p:nvSpPr>
          <p:spPr>
            <a:xfrm flipH="1">
              <a:off x="4114800" y="1295280"/>
              <a:ext cx="838080" cy="19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5" name="Line 16"/>
            <p:cNvSpPr/>
            <p:nvPr/>
          </p:nvSpPr>
          <p:spPr>
            <a:xfrm flipH="1">
              <a:off x="4114800" y="1600200"/>
              <a:ext cx="1752480" cy="19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6" name="Line 17"/>
            <p:cNvSpPr/>
            <p:nvPr/>
          </p:nvSpPr>
          <p:spPr>
            <a:xfrm flipV="1">
              <a:off x="3200400" y="3657240"/>
              <a:ext cx="45720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7" name="Line 18"/>
            <p:cNvSpPr/>
            <p:nvPr/>
          </p:nvSpPr>
          <p:spPr>
            <a:xfrm flipV="1">
              <a:off x="1600200" y="3428640"/>
              <a:ext cx="60948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8" name="Line 19"/>
            <p:cNvSpPr/>
            <p:nvPr/>
          </p:nvSpPr>
          <p:spPr>
            <a:xfrm>
              <a:off x="2057400" y="1752480"/>
              <a:ext cx="160020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9" name="Line 20"/>
            <p:cNvSpPr/>
            <p:nvPr/>
          </p:nvSpPr>
          <p:spPr>
            <a:xfrm>
              <a:off x="1371600" y="2209680"/>
              <a:ext cx="152388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0" name="AutoShape 21"/>
            <p:cNvSpPr/>
            <p:nvPr/>
          </p:nvSpPr>
          <p:spPr>
            <a:xfrm>
              <a:off x="6934320" y="2438280"/>
              <a:ext cx="228600" cy="1828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1" name="Line 22"/>
            <p:cNvSpPr/>
            <p:nvPr/>
          </p:nvSpPr>
          <p:spPr>
            <a:xfrm flipH="1" flipV="1">
              <a:off x="5334120" y="2743200"/>
              <a:ext cx="304560" cy="220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2" name="Line 23"/>
            <p:cNvSpPr/>
            <p:nvPr/>
          </p:nvSpPr>
          <p:spPr>
            <a:xfrm flipH="1" flipV="1">
              <a:off x="5181480" y="3124080"/>
              <a:ext cx="457200" cy="18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3" name="Line 24"/>
            <p:cNvSpPr/>
            <p:nvPr/>
          </p:nvSpPr>
          <p:spPr>
            <a:xfrm flipH="1" flipV="1">
              <a:off x="5105160" y="3504960"/>
              <a:ext cx="533160" cy="144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4" name="Line 25"/>
            <p:cNvSpPr/>
            <p:nvPr/>
          </p:nvSpPr>
          <p:spPr>
            <a:xfrm flipH="1" flipV="1">
              <a:off x="4876920" y="3733920"/>
              <a:ext cx="76176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5" name="Line 26"/>
            <p:cNvSpPr/>
            <p:nvPr/>
          </p:nvSpPr>
          <p:spPr>
            <a:xfrm flipH="1" flipV="1">
              <a:off x="4495320" y="3962160"/>
              <a:ext cx="114300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sp>
        <p:nvSpPr>
          <p:cNvPr id="506" name="Text Box 27"/>
          <p:cNvSpPr/>
          <p:nvPr/>
        </p:nvSpPr>
        <p:spPr>
          <a:xfrm>
            <a:off x="129960" y="6431040"/>
            <a:ext cx="53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swers: Next Slide; for Drill Click Back &amp; Forth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507" name="Text Box 28"/>
          <p:cNvSpPr/>
          <p:nvPr/>
        </p:nvSpPr>
        <p:spPr>
          <a:xfrm>
            <a:off x="6398280" y="6324480"/>
            <a:ext cx="23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ght, Superior Vie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594324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Foot Quiz Answer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09" name="Group 3"/>
          <p:cNvGrpSpPr/>
          <p:nvPr/>
        </p:nvGrpSpPr>
        <p:grpSpPr>
          <a:xfrm>
            <a:off x="153720" y="380880"/>
            <a:ext cx="8876160" cy="5260320"/>
            <a:chOff x="153720" y="380880"/>
            <a:chExt cx="8876160" cy="5260320"/>
          </a:xfrm>
        </p:grpSpPr>
        <p:pic>
          <p:nvPicPr>
            <p:cNvPr id="510" name="Picture 4" descr=""/>
            <p:cNvPicPr/>
            <p:nvPr/>
          </p:nvPicPr>
          <p:blipFill>
            <a:blip r:embed="rId1"/>
            <a:stretch/>
          </p:blipFill>
          <p:spPr>
            <a:xfrm>
              <a:off x="1523880" y="2133720"/>
              <a:ext cx="548640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 Box 5"/>
            <p:cNvSpPr/>
            <p:nvPr/>
          </p:nvSpPr>
          <p:spPr>
            <a:xfrm>
              <a:off x="7239960" y="304812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. Phalanges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2" name="Text Box 6"/>
            <p:cNvSpPr/>
            <p:nvPr/>
          </p:nvSpPr>
          <p:spPr>
            <a:xfrm>
              <a:off x="5486040" y="5105520"/>
              <a:ext cx="19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. Metatarsals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3" name="Text Box 7"/>
            <p:cNvSpPr/>
            <p:nvPr/>
          </p:nvSpPr>
          <p:spPr>
            <a:xfrm>
              <a:off x="2973240" y="472428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. Cuboid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4" name="Text Box 8"/>
            <p:cNvSpPr/>
            <p:nvPr/>
          </p:nvSpPr>
          <p:spPr>
            <a:xfrm>
              <a:off x="839520" y="51814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. Calcaneus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5" name="Text Box 9"/>
            <p:cNvSpPr/>
            <p:nvPr/>
          </p:nvSpPr>
          <p:spPr>
            <a:xfrm>
              <a:off x="153720" y="19908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. Talus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6" name="Text Box 10"/>
            <p:cNvSpPr/>
            <p:nvPr/>
          </p:nvSpPr>
          <p:spPr>
            <a:xfrm>
              <a:off x="838800" y="138096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. Navicular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2133720" y="533520"/>
              <a:ext cx="1936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. Medial 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uneiform (1)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8" name="Text Box 12"/>
            <p:cNvSpPr/>
            <p:nvPr/>
          </p:nvSpPr>
          <p:spPr>
            <a:xfrm>
              <a:off x="4266720" y="380880"/>
              <a:ext cx="209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. Intermediate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uneiform (2)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9" name="Text Box 13"/>
            <p:cNvSpPr/>
            <p:nvPr/>
          </p:nvSpPr>
          <p:spPr>
            <a:xfrm>
              <a:off x="5865840" y="1371600"/>
              <a:ext cx="31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. Lateral Cuneiform (3)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0" name="Line 14"/>
            <p:cNvSpPr/>
            <p:nvPr/>
          </p:nvSpPr>
          <p:spPr>
            <a:xfrm>
              <a:off x="2895480" y="1447920"/>
              <a:ext cx="12193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1" name="Line 15"/>
            <p:cNvSpPr/>
            <p:nvPr/>
          </p:nvSpPr>
          <p:spPr>
            <a:xfrm flipH="1">
              <a:off x="4114800" y="1295280"/>
              <a:ext cx="838080" cy="19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2" name="Line 16"/>
            <p:cNvSpPr/>
            <p:nvPr/>
          </p:nvSpPr>
          <p:spPr>
            <a:xfrm flipH="1">
              <a:off x="4114800" y="1600200"/>
              <a:ext cx="1752480" cy="19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3" name="Line 17"/>
            <p:cNvSpPr/>
            <p:nvPr/>
          </p:nvSpPr>
          <p:spPr>
            <a:xfrm flipV="1">
              <a:off x="3200400" y="3657240"/>
              <a:ext cx="45720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4" name="Line 18"/>
            <p:cNvSpPr/>
            <p:nvPr/>
          </p:nvSpPr>
          <p:spPr>
            <a:xfrm flipV="1">
              <a:off x="1600200" y="3428640"/>
              <a:ext cx="60948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5" name="Line 19"/>
            <p:cNvSpPr/>
            <p:nvPr/>
          </p:nvSpPr>
          <p:spPr>
            <a:xfrm>
              <a:off x="2057400" y="1752480"/>
              <a:ext cx="160020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6" name="Line 20"/>
            <p:cNvSpPr/>
            <p:nvPr/>
          </p:nvSpPr>
          <p:spPr>
            <a:xfrm>
              <a:off x="1371600" y="2209680"/>
              <a:ext cx="152388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7" name="AutoShape 21"/>
            <p:cNvSpPr/>
            <p:nvPr/>
          </p:nvSpPr>
          <p:spPr>
            <a:xfrm>
              <a:off x="6934320" y="2438280"/>
              <a:ext cx="228600" cy="1828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8" name="Line 22"/>
            <p:cNvSpPr/>
            <p:nvPr/>
          </p:nvSpPr>
          <p:spPr>
            <a:xfrm flipH="1" flipV="1">
              <a:off x="5334120" y="2743200"/>
              <a:ext cx="304560" cy="220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9" name="Line 23"/>
            <p:cNvSpPr/>
            <p:nvPr/>
          </p:nvSpPr>
          <p:spPr>
            <a:xfrm flipH="1" flipV="1">
              <a:off x="5181480" y="3124080"/>
              <a:ext cx="457200" cy="18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30" name="Line 24"/>
            <p:cNvSpPr/>
            <p:nvPr/>
          </p:nvSpPr>
          <p:spPr>
            <a:xfrm flipH="1" flipV="1">
              <a:off x="5105160" y="3504960"/>
              <a:ext cx="533160" cy="144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31" name="Line 25"/>
            <p:cNvSpPr/>
            <p:nvPr/>
          </p:nvSpPr>
          <p:spPr>
            <a:xfrm flipH="1" flipV="1">
              <a:off x="4876920" y="3733920"/>
              <a:ext cx="76176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32" name="Line 26"/>
            <p:cNvSpPr/>
            <p:nvPr/>
          </p:nvSpPr>
          <p:spPr>
            <a:xfrm flipH="1" flipV="1">
              <a:off x="4495320" y="3962160"/>
              <a:ext cx="114300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sp>
        <p:nvSpPr>
          <p:cNvPr id="533" name="Text Box 27"/>
          <p:cNvSpPr/>
          <p:nvPr/>
        </p:nvSpPr>
        <p:spPr>
          <a:xfrm>
            <a:off x="6321960" y="6324480"/>
            <a:ext cx="23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ght, Superior Vie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5" descr="ankbone"/>
          <p:cNvPicPr/>
          <p:nvPr/>
        </p:nvPicPr>
        <p:blipFill>
          <a:blip r:embed="rId1"/>
          <a:stretch/>
        </p:blipFill>
        <p:spPr>
          <a:xfrm>
            <a:off x="2749680" y="1496880"/>
            <a:ext cx="3306600" cy="490392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Futura Md BT"/>
              </a:rPr>
              <a:t>BONES OF THE ANKLE JOI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Poornut"/>
              </a:rPr>
              <a:t>Talocrural joint</a:t>
            </a:r>
            <a:r>
              <a:rPr b="0" lang="en-US" sz="4400" spc="-1" strike="noStrike">
                <a:solidFill>
                  <a:srgbClr val="ffffcc"/>
                </a:solidFill>
                <a:latin typeface="Poornut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omposed of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ateral Malleolus (Distal Portion of Fibul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edial Malleolus (Distal portion of Tibi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l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Picture 10" descr="x-ray%2520talocrural%2520joint"/>
          <p:cNvPicPr/>
          <p:nvPr/>
        </p:nvPicPr>
        <p:blipFill>
          <a:blip r:embed="rId1"/>
          <a:stretch/>
        </p:blipFill>
        <p:spPr>
          <a:xfrm>
            <a:off x="4952880" y="1295280"/>
            <a:ext cx="3781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Poornut"/>
              </a:rPr>
              <a:t>Talocrural joint “cont.”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Md BT"/>
              </a:rPr>
              <a:t>JOINT MO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Md BT"/>
              </a:rPr>
              <a:t>PLANTAR FLEX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Md BT"/>
              </a:rPr>
              <a:t>DORSIFLEX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1" name="Picture 8" descr="plantarflex"/>
          <p:cNvPicPr/>
          <p:nvPr/>
        </p:nvPicPr>
        <p:blipFill>
          <a:blip r:embed="rId1"/>
          <a:stretch/>
        </p:blipFill>
        <p:spPr>
          <a:xfrm>
            <a:off x="4572000" y="1371600"/>
            <a:ext cx="4191120" cy="34257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Plantar-Flexion-for-web"/>
          <p:cNvPicPr/>
          <p:nvPr/>
        </p:nvPicPr>
        <p:blipFill>
          <a:blip r:embed="rId2"/>
          <a:stretch/>
        </p:blipFill>
        <p:spPr>
          <a:xfrm>
            <a:off x="1600200" y="4876920"/>
            <a:ext cx="160020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2:55:28Z</dcterms:created>
  <dc:creator>Gary Mac Donald</dc:creator>
  <dc:description/>
  <dc:language>en-US</dc:language>
  <cp:lastModifiedBy>Andrew S. Hansell</cp:lastModifiedBy>
  <dcterms:modified xsi:type="dcterms:W3CDTF">2014-04-07T12:58:36Z</dcterms:modified>
  <cp:revision>13</cp:revision>
  <dc:subject/>
  <dc:title>THE ANKLE &amp; LOWER LEG</dc:title>
</cp:coreProperties>
</file>