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26C-BF65-42BB-B9C2-6216FD28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CB9-99C2-4744-92C7-F3E1660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BB3-6D0D-40DD-8830-665DF754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913-D409-46ED-B9A6-5BABCAB1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ECE2-5648-4C03-BEB3-22A29EAA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FD8F-353E-40FB-B7BB-71B22AB3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989A-52A1-4235-9A87-C3726BC5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C906-DBAF-4BBE-B88F-8288126A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7E0D-FE36-407C-ABA1-69E2C671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7B37-3AF2-4171-96AB-6F2978A1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DD13-0698-41AE-86B4-35C965C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E8D-84CD-4103-A468-75644E8F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22BC-7849-4C68-91E1-9CC50DE7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9BFD-450F-43A5-A51F-4DE0A19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3CEE-0D6D-4AE0-9261-C715E85E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0AA8-852B-4A56-9E86-4CEB9B1E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3B9F-5613-4011-BD84-931B2666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084-01E0-4AB6-A246-FFAAB097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1E2-A67F-4129-9900-1F1DCEB2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05B-4E23-49D7-96F3-502A256C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B1C-EF3F-491F-8662-86496BAC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3D8-D3F8-41B4-AFD6-25064B3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CF5-FE20-4B97-BCF4-746B39E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F50-6D1B-442A-AD0F-5759DE3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9BC6-EA93-44CE-AE06-1E37399DF712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108E-226E-4879-9C0C-9ADA27838484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Hip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in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and inferior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7" name="Picture 6" descr="glutminimus"/>
          <p:cNvPicPr/>
          <p:nvPr/>
        </p:nvPicPr>
        <p:blipFill>
          <a:blip r:embed="rId9"/>
          <a:stretch/>
        </p:blipFill>
        <p:spPr>
          <a:xfrm>
            <a:off x="1905120" y="2057400"/>
            <a:ext cx="2468520" cy="4114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457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os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ax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gluteal line of il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surface of lowe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ccy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glute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EXT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pper fibers – Hip AB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wer Fibers –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Picture 6" descr="glutmaximus"/>
          <p:cNvPicPr/>
          <p:nvPr/>
        </p:nvPicPr>
        <p:blipFill>
          <a:blip r:embed="rId13"/>
          <a:stretch/>
        </p:blipFill>
        <p:spPr>
          <a:xfrm>
            <a:off x="1676520" y="1828800"/>
            <a:ext cx="2314440" cy="4114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0" y="2438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Wide area on posterior pelv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tendi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medial surface of tib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ex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Picture 5" descr="semitendinosus"/>
          <p:cNvPicPr/>
          <p:nvPr/>
        </p:nvPicPr>
        <p:blipFill>
          <a:blip r:embed="rId10"/>
          <a:stretch/>
        </p:blipFill>
        <p:spPr>
          <a:xfrm>
            <a:off x="2819520" y="914400"/>
            <a:ext cx="1336680" cy="525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3049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Near the knee on postero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membra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omedial apsect of medial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menisc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 bran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1" name="Picture 5" descr="semimembranosus"/>
          <p:cNvPicPr/>
          <p:nvPr/>
        </p:nvPicPr>
        <p:blipFill>
          <a:blip r:embed="rId11"/>
          <a:stretch/>
        </p:blipFill>
        <p:spPr>
          <a:xfrm>
            <a:off x="2514600" y="990720"/>
            <a:ext cx="1490760" cy="58672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304920" y="2743200"/>
            <a:ext cx="21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Largely covered by other muscles,  can palpate tendon on posteromedial aspect of tib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Bicep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bular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 – Sciatic (Perone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5" descr="bicepsfemshort"/>
          <p:cNvPicPr/>
          <p:nvPr/>
        </p:nvPicPr>
        <p:blipFill>
          <a:blip r:embed="rId13"/>
          <a:stretch/>
        </p:blipFill>
        <p:spPr>
          <a:xfrm>
            <a:off x="762120" y="685800"/>
            <a:ext cx="1374480" cy="5410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bicepsfemlong"/>
          <p:cNvPicPr/>
          <p:nvPr/>
        </p:nvPicPr>
        <p:blipFill>
          <a:blip r:embed="rId14"/>
          <a:stretch/>
        </p:blipFill>
        <p:spPr>
          <a:xfrm>
            <a:off x="2514600" y="685800"/>
            <a:ext cx="1374840" cy="54100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304920" y="6095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lateral side of distal kn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Deep Hip Rotato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iriform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2" name="Picture 6" descr="hiprotators"/>
          <p:cNvPicPr/>
          <p:nvPr/>
        </p:nvPicPr>
        <p:blipFill>
          <a:blip r:embed="rId9"/>
          <a:stretch/>
        </p:blipFill>
        <p:spPr>
          <a:xfrm>
            <a:off x="1905120" y="198108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"/>
          <p:cNvSpPr/>
          <p:nvPr/>
        </p:nvSpPr>
        <p:spPr>
          <a:xfrm>
            <a:off x="2438280" y="2666880"/>
            <a:ext cx="381240" cy="838440"/>
          </a:xfrm>
          <a:prstGeom prst="downArrow">
            <a:avLst>
              <a:gd name="adj1" fmla="val 50000"/>
              <a:gd name="adj2" fmla="val 5498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Sup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6" name="Picture 5" descr="hiprotators"/>
          <p:cNvPicPr/>
          <p:nvPr/>
        </p:nvPicPr>
        <p:blipFill>
          <a:blip r:embed="rId9"/>
          <a:stretch/>
        </p:blipFill>
        <p:spPr>
          <a:xfrm>
            <a:off x="1981080" y="198108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6"/>
          <p:cNvSpPr/>
          <p:nvPr/>
        </p:nvSpPr>
        <p:spPr>
          <a:xfrm>
            <a:off x="3124080" y="3581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In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Picture 5" descr="hiprotators"/>
          <p:cNvPicPr/>
          <p:nvPr/>
        </p:nvPicPr>
        <p:blipFill>
          <a:blip r:embed="rId9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905120" y="441972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n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Inf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foram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and poster portions of 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4" name="Picture 5" descr="hiprotators"/>
          <p:cNvPicPr/>
          <p:nvPr/>
        </p:nvPicPr>
        <p:blipFill>
          <a:blip r:embed="rId11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2666880" y="457200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Ex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6" descr="obtext2"/>
          <p:cNvPicPr/>
          <p:nvPr/>
        </p:nvPicPr>
        <p:blipFill>
          <a:blip r:embed="rId9"/>
          <a:stretch/>
        </p:blipFill>
        <p:spPr>
          <a:xfrm>
            <a:off x="1295280" y="1905120"/>
            <a:ext cx="28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adra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 -S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Picture 5" descr="hiprotators"/>
          <p:cNvPicPr/>
          <p:nvPr/>
        </p:nvPicPr>
        <p:blipFill>
          <a:blip r:embed="rId9"/>
          <a:stretch/>
        </p:blipFill>
        <p:spPr>
          <a:xfrm>
            <a:off x="1752480" y="190512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6"/>
          <p:cNvSpPr/>
          <p:nvPr/>
        </p:nvSpPr>
        <p:spPr>
          <a:xfrm>
            <a:off x="3048120" y="464832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Medi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ectine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ctineal line of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Picture 6" descr="addbrevis"/>
          <p:cNvPicPr/>
          <p:nvPr/>
        </p:nvPicPr>
        <p:blipFill>
          <a:blip r:embed="rId9"/>
          <a:stretch/>
        </p:blipFill>
        <p:spPr>
          <a:xfrm>
            <a:off x="2819520" y="914400"/>
            <a:ext cx="1257120" cy="57150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7"/>
          <p:cNvSpPr/>
          <p:nvPr/>
        </p:nvSpPr>
        <p:spPr>
          <a:xfrm>
            <a:off x="3276720" y="1523880"/>
            <a:ext cx="380880" cy="838440"/>
          </a:xfrm>
          <a:prstGeom prst="downArrow">
            <a:avLst>
              <a:gd name="adj1" fmla="val 50000"/>
              <a:gd name="adj2" fmla="val 5503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85800" y="1905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gle between the pubic bone and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Brev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ody &amp; 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" descr="addbrevis"/>
          <p:cNvPicPr/>
          <p:nvPr/>
        </p:nvPicPr>
        <p:blipFill>
          <a:blip r:embed="rId9"/>
          <a:stretch/>
        </p:blipFill>
        <p:spPr>
          <a:xfrm>
            <a:off x="2819520" y="990720"/>
            <a:ext cx="1206360" cy="5486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6"/>
          <p:cNvSpPr/>
          <p:nvPr/>
        </p:nvSpPr>
        <p:spPr>
          <a:xfrm>
            <a:off x="3429000" y="28954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38080" y="2286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Long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ic cres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" name="Picture 6" descr="addlong"/>
          <p:cNvPicPr/>
          <p:nvPr/>
        </p:nvPicPr>
        <p:blipFill>
          <a:blip r:embed="rId9"/>
          <a:stretch/>
        </p:blipFill>
        <p:spPr>
          <a:xfrm>
            <a:off x="2819520" y="838080"/>
            <a:ext cx="1274760" cy="5791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609480" y="2286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Just below pubic bone on 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Mag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dductor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ortion --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6" descr="addmag"/>
          <p:cNvPicPr/>
          <p:nvPr/>
        </p:nvPicPr>
        <p:blipFill>
          <a:blip r:embed="rId13"/>
          <a:stretch/>
        </p:blipFill>
        <p:spPr>
          <a:xfrm>
            <a:off x="2523960" y="838080"/>
            <a:ext cx="1225800" cy="5562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304920" y="2133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medial surface of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cil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ubic symph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Tibia (Pes Anserine Tendo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knee Flx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Picture 5" descr="addbrevis"/>
          <p:cNvPicPr/>
          <p:nvPr/>
        </p:nvPicPr>
        <p:blipFill>
          <a:blip r:embed="rId10"/>
          <a:stretch/>
        </p:blipFill>
        <p:spPr>
          <a:xfrm>
            <a:off x="2819520" y="990720"/>
            <a:ext cx="1224000" cy="556236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297180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09480" y="243828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Medial side of thigh 2-3 inches below pubic bo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artor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anteromedial aspect of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, ADD,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medial rot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icture 6" descr="sartorius"/>
          <p:cNvPicPr/>
          <p:nvPr/>
        </p:nvPicPr>
        <p:blipFill>
          <a:blip r:embed="rId10"/>
          <a:stretch/>
        </p:blipFill>
        <p:spPr>
          <a:xfrm>
            <a:off x="2819520" y="990720"/>
            <a:ext cx="1384200" cy="54100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838080" y="297180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 palpate off ASIS but difficult to palpate in medium to heavy legged per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Rec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bial tuberos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ee EXT &amp; Hip FL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icture 5" descr="rectusfemoris001"/>
          <p:cNvPicPr/>
          <p:nvPr/>
        </p:nvPicPr>
        <p:blipFill>
          <a:blip r:embed="rId9"/>
          <a:stretch/>
        </p:blipFill>
        <p:spPr>
          <a:xfrm>
            <a:off x="2666880" y="1143000"/>
            <a:ext cx="1363680" cy="53341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0" y="28195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y place over anterior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soas Maj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ansverse processe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vertebral Disk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 of femu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umbar Plexus (L1-L4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e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6" name="Picture 6" descr="iliopsoas"/>
          <p:cNvPicPr/>
          <p:nvPr/>
        </p:nvPicPr>
        <p:blipFill>
          <a:blip r:embed="rId10"/>
          <a:stretch/>
        </p:blipFill>
        <p:spPr>
          <a:xfrm>
            <a:off x="2438280" y="121932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7"/>
          <p:cNvSpPr/>
          <p:nvPr/>
        </p:nvSpPr>
        <p:spPr>
          <a:xfrm>
            <a:off x="2743200" y="3048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09480" y="297180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Iliac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liac Fos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1" name="Picture 5" descr="iliopsoas"/>
          <p:cNvPicPr/>
          <p:nvPr/>
        </p:nvPicPr>
        <p:blipFill>
          <a:blip r:embed="rId10"/>
          <a:stretch/>
        </p:blipFill>
        <p:spPr>
          <a:xfrm>
            <a:off x="2666880" y="114300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/>
          <p:cNvSpPr/>
          <p:nvPr/>
        </p:nvSpPr>
        <p:spPr>
          <a:xfrm>
            <a:off x="3581280" y="35053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85800" y="320040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Later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ensor Fascia Lat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iac cr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then into the knee via Gerdy’s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Picture 6" descr="glutmaximuslat"/>
          <p:cNvPicPr/>
          <p:nvPr/>
        </p:nvPicPr>
        <p:blipFill>
          <a:blip r:embed="rId10"/>
          <a:stretch/>
        </p:blipFill>
        <p:spPr>
          <a:xfrm>
            <a:off x="2514600" y="1066680"/>
            <a:ext cx="1542960" cy="5486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7"/>
          <p:cNvSpPr/>
          <p:nvPr/>
        </p:nvSpPr>
        <p:spPr>
          <a:xfrm>
            <a:off x="2819520" y="220968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09480" y="2590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of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ed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&amp; posterior gluteal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fibers – IR &amp;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fibers  -- ER and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Picture 6" descr="glutmedius"/>
          <p:cNvPicPr/>
          <p:nvPr/>
        </p:nvPicPr>
        <p:blipFill>
          <a:blip r:embed="rId11"/>
          <a:stretch/>
        </p:blipFill>
        <p:spPr>
          <a:xfrm>
            <a:off x="1905120" y="198108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7"/>
          <p:cNvSpPr/>
          <p:nvPr/>
        </p:nvSpPr>
        <p:spPr>
          <a:xfrm>
            <a:off x="304920" y="2895480"/>
            <a:ext cx="144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and above the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7:49:32Z</dcterms:created>
  <dc:creator>Information Resources Rowan U</dc:creator>
  <dc:description/>
  <dc:language>en-US</dc:language>
  <cp:lastModifiedBy>ASHANSEL</cp:lastModifiedBy>
  <dcterms:modified xsi:type="dcterms:W3CDTF">2010-03-18T13:44:00Z</dcterms:modified>
  <cp:revision>35</cp:revision>
  <dc:subject/>
  <dc:title>Hip Muscles</dc:title>
</cp:coreProperties>
</file>