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A866E-75AD-4B87-A907-89696354D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ECCB1-AC05-4BBC-A75C-AD488CBE0D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CE79D-FFDE-4ED3-A5FC-686A7F0D91A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5AB95-B552-4E1A-9EB2-E931246FC5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11F50-05D2-4BF2-8BCC-D85D61893E6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799D2-1F14-4D04-8364-5AD825F9C5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41AFB-5BF0-46D7-BB68-AA13EF0546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1A888-F658-463A-8C7E-978B383D9A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5F828-356E-437D-8724-758B48A284B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499EC-66FB-4F70-8BC5-225C80F968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63A15-FEFF-4E1D-8623-139770A5F6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F624C-7291-486C-8E7D-9D41A39136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58B4F-0AF9-414F-8292-FF48E8D06D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098A6-0F33-490A-B17C-6C74185747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97E7C-7886-40B6-9458-8CAF2EB3A9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7F24-C5A0-40E6-B280-B280B9326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69D8-F1ED-44B9-95CC-4656F5E1B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FF47-7901-4503-88BA-B60EE17A7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B126-EB52-4F82-BC4F-904BE2F54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A135-A2A3-46E8-8ED9-C498D95CD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CA10-8248-44FA-85BC-31D765988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9D04-D789-46F3-868D-B07E67AF5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03A2-DF1D-4006-B1E6-1CD6BCE71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0CD7-BDF8-4866-924F-F3FD9293C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425B-F4E7-4612-96CF-411F5759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693C-3F10-4519-B262-B9514FCE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897B-1437-4B72-9E77-6CD1E1D0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7AD84-25FF-4ED5-9845-D11CAB133AC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atom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iz at the end for those who need to take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sic Joint A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l (Internal) Ro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erior surface moves toward mid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teral (External) Ro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erior surface moves away from mid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4" descr="rotation"/>
          <p:cNvPicPr/>
          <p:nvPr/>
        </p:nvPicPr>
        <p:blipFill>
          <a:blip r:embed="rId1"/>
          <a:stretch/>
        </p:blipFill>
        <p:spPr>
          <a:xfrm>
            <a:off x="4419720" y="1219320"/>
            <a:ext cx="4363920" cy="55022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sic Joint A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2103120"/>
            <a:ext cx="404172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r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ing forward on plane parallel to gr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nch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tr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ing backward on plane parallel to gr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rt lawn mower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4" descr="protract-retract2"/>
          <p:cNvPicPr/>
          <p:nvPr/>
        </p:nvPicPr>
        <p:blipFill>
          <a:blip r:embed="rId1"/>
          <a:stretch/>
        </p:blipFill>
        <p:spPr>
          <a:xfrm>
            <a:off x="4572000" y="1981080"/>
            <a:ext cx="4554360" cy="4167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sic Joint A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0280" y="2103120"/>
            <a:ext cx="396864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ward Ro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erior ang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wnward Ro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move upw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r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move downw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4" descr="elevation-depression"/>
          <p:cNvPicPr/>
          <p:nvPr/>
        </p:nvPicPr>
        <p:blipFill>
          <a:blip r:embed="rId1"/>
          <a:stretch/>
        </p:blipFill>
        <p:spPr>
          <a:xfrm>
            <a:off x="4572000" y="1600200"/>
            <a:ext cx="4095720" cy="5029200"/>
          </a:xfrm>
          <a:prstGeom prst="rect">
            <a:avLst/>
          </a:prstGeom>
          <a:ln w="0">
            <a:noFill/>
          </a:ln>
        </p:spPr>
      </p:pic>
      <p:sp>
        <p:nvSpPr>
          <p:cNvPr id="88" name="Oval 5"/>
          <p:cNvSpPr/>
          <p:nvPr/>
        </p:nvSpPr>
        <p:spPr>
          <a:xfrm>
            <a:off x="5867280" y="3124080"/>
            <a:ext cx="228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Oval 6"/>
          <p:cNvSpPr/>
          <p:nvPr/>
        </p:nvSpPr>
        <p:spPr>
          <a:xfrm>
            <a:off x="6629400" y="3124080"/>
            <a:ext cx="228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6705720" y="3352680"/>
            <a:ext cx="609480" cy="152640"/>
          </a:xfrm>
          <a:custGeom>
            <a:avLst/>
            <a:gdLst>
              <a:gd name="textAreaLeft" fmla="*/ 106560 w 609480"/>
              <a:gd name="textAreaRight" fmla="*/ 442080 w 609480"/>
              <a:gd name="textAreaTop" fmla="*/ 20160 h 152640"/>
              <a:gd name="textAreaBottom" fmla="*/ 132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8"/>
          <p:cNvSpPr/>
          <p:nvPr/>
        </p:nvSpPr>
        <p:spPr>
          <a:xfrm>
            <a:off x="5791320" y="3352680"/>
            <a:ext cx="609480" cy="152640"/>
          </a:xfrm>
          <a:custGeom>
            <a:avLst/>
            <a:gdLst>
              <a:gd name="textAreaLeft" fmla="*/ 106560 w 609480"/>
              <a:gd name="textAreaRight" fmla="*/ 442080 w 609480"/>
              <a:gd name="textAreaTop" fmla="*/ 20160 h 152640"/>
              <a:gd name="textAreaBottom" fmla="*/ 132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sic Joint A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280" y="1828440"/>
            <a:ext cx="4191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dial Deviation (AB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e wrist outwards or away from midline of bo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iate towards radi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lnar Deviation (AD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e wrist inwards or towards the midline of bo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iate towards ul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4" descr="radial-unlar dev"/>
          <p:cNvPicPr/>
          <p:nvPr/>
        </p:nvPicPr>
        <p:blipFill>
          <a:blip r:embed="rId1"/>
          <a:stretch/>
        </p:blipFill>
        <p:spPr>
          <a:xfrm>
            <a:off x="4343400" y="1828800"/>
            <a:ext cx="4788000" cy="4471920"/>
          </a:xfrm>
          <a:prstGeom prst="rect">
            <a:avLst/>
          </a:prstGeom>
          <a:ln w="0">
            <a:noFill/>
          </a:ln>
        </p:spPr>
      </p:pic>
      <p:sp>
        <p:nvSpPr>
          <p:cNvPr id="95" name="Line 5"/>
          <p:cNvSpPr/>
          <p:nvPr/>
        </p:nvSpPr>
        <p:spPr>
          <a:xfrm flipH="1" flipV="1">
            <a:off x="6705720" y="525744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7087680" y="541008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Radi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7"/>
          <p:cNvSpPr/>
          <p:nvPr/>
        </p:nvSpPr>
        <p:spPr>
          <a:xfrm flipV="1">
            <a:off x="5791320" y="5257440"/>
            <a:ext cx="53316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5092200" y="5334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Ul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sic Joint A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76680" y="213372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rcum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tin meaning “around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bination of flexion/extension and abduction/ad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4" descr="circumduction"/>
          <p:cNvPicPr/>
          <p:nvPr/>
        </p:nvPicPr>
        <p:blipFill>
          <a:blip r:embed="rId1"/>
          <a:stretch/>
        </p:blipFill>
        <p:spPr>
          <a:xfrm>
            <a:off x="3908520" y="1828800"/>
            <a:ext cx="5235480" cy="2635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ments are i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agittal Pl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ex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erext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tarflex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rsiflex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vements are i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rontal Pla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lnar dev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dial dev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ward ro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wnward ro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teral flex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vements are i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ransverse Pla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al ro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ernal ro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izontal ab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izontal ad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unk Ro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s of A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90280" y="1600200"/>
            <a:ext cx="3754440" cy="42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ex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rcum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r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tr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4720" y="1671480"/>
            <a:ext cx="3608280" cy="388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pos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ress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teral be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r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erext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tar/dorsal flex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152360" y="457200"/>
            <a:ext cx="7280280" cy="632448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rectional Terms continu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al (centr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ward or in inter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psilat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same side of bo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925440" y="2565000"/>
            <a:ext cx="4761000" cy="32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rnal (peripher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ward or on exter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alat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opposite side of bo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5"/>
          <p:cNvSpPr/>
          <p:nvPr/>
        </p:nvSpPr>
        <p:spPr>
          <a:xfrm>
            <a:off x="3200400" y="22860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Line 6"/>
          <p:cNvSpPr/>
          <p:nvPr/>
        </p:nvSpPr>
        <p:spPr>
          <a:xfrm>
            <a:off x="3200400" y="34290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838080" y="-36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asic Joint Ac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274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ex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ing a decrease in ang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ing an increase in ang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4" descr="flexion"/>
          <p:cNvPicPr/>
          <p:nvPr/>
        </p:nvPicPr>
        <p:blipFill>
          <a:blip r:embed="rId1"/>
          <a:stretch/>
        </p:blipFill>
        <p:spPr>
          <a:xfrm>
            <a:off x="2666880" y="304920"/>
            <a:ext cx="6477120" cy="6553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sic Joint A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42670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duction (AB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ing away from midline of the bo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“take away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uction (AD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ing towards the midline of bo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“add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4" descr="hip abd-add"/>
          <p:cNvPicPr/>
          <p:nvPr/>
        </p:nvPicPr>
        <p:blipFill>
          <a:blip r:embed="rId1"/>
          <a:stretch/>
        </p:blipFill>
        <p:spPr>
          <a:xfrm>
            <a:off x="6934320" y="1676520"/>
            <a:ext cx="2095560" cy="2895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shld_abd-add"/>
          <p:cNvPicPr/>
          <p:nvPr/>
        </p:nvPicPr>
        <p:blipFill>
          <a:blip r:embed="rId2"/>
          <a:stretch/>
        </p:blipFill>
        <p:spPr>
          <a:xfrm>
            <a:off x="4297320" y="1676520"/>
            <a:ext cx="1920960" cy="28954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4347360" y="45720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Shoul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7927200" y="4572000"/>
            <a:ext cx="63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H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7623000" y="617220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in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9" descr="finger abd-add"/>
          <p:cNvPicPr/>
          <p:nvPr/>
        </p:nvPicPr>
        <p:blipFill>
          <a:blip r:embed="rId3"/>
          <a:stretch/>
        </p:blipFill>
        <p:spPr>
          <a:xfrm>
            <a:off x="5943600" y="4191120"/>
            <a:ext cx="1644480" cy="2468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sic Joint A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2103120"/>
            <a:ext cx="404172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tating hand/forearm latera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ld the soup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tating hand/forearm media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ur the soup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4" descr="pronation-supination"/>
          <p:cNvPicPr/>
          <p:nvPr/>
        </p:nvPicPr>
        <p:blipFill>
          <a:blip r:embed="rId1"/>
          <a:stretch/>
        </p:blipFill>
        <p:spPr>
          <a:xfrm>
            <a:off x="4572000" y="1960560"/>
            <a:ext cx="4156200" cy="4516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sic Joint A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0280" y="2103480"/>
            <a:ext cx="396864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tarflex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int toes/foot downw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d on tip toe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rsiflex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int toes/foot upw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ot off the gas pedal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4" descr="pf-df"/>
          <p:cNvPicPr/>
          <p:nvPr/>
        </p:nvPicPr>
        <p:blipFill>
          <a:blip r:embed="rId1"/>
          <a:stretch/>
        </p:blipFill>
        <p:spPr>
          <a:xfrm>
            <a:off x="4572000" y="1676520"/>
            <a:ext cx="4203720" cy="4876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sic Joint A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0280" y="2103120"/>
            <a:ext cx="396864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r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ement of sole of foot inw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ement of sole of foot outw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4" descr="inv-ever"/>
          <p:cNvPicPr/>
          <p:nvPr/>
        </p:nvPicPr>
        <p:blipFill>
          <a:blip r:embed="rId1"/>
          <a:stretch/>
        </p:blipFill>
        <p:spPr>
          <a:xfrm>
            <a:off x="5562720" y="1219320"/>
            <a:ext cx="2092320" cy="5378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20:29:04Z</dcterms:created>
  <dc:creator>ashansel</dc:creator>
  <dc:description/>
  <dc:language>en-US</dc:language>
  <cp:lastModifiedBy>Andrew S. Hansell</cp:lastModifiedBy>
  <dcterms:modified xsi:type="dcterms:W3CDTF">2013-09-10T11:11:42Z</dcterms:modified>
  <cp:revision>9</cp:revision>
  <dc:subject/>
  <dc:title>Anatomy</dc:title>
</cp:coreProperties>
</file>