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1F8E-5251-4021-9DA2-06AF57BAD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D860-FC47-45A8-9CFE-1E28A7E902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F46F-84A9-4040-A7AB-E6DCDBDECD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6B93-B2AA-4133-B503-9587BF0B8E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A366-608A-4A4F-B17B-398EDB0494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96AD-DDAB-440C-8CE1-F3A9D470EE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C394-8E7D-4774-AEE8-26A3A5DC53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EA98-91CB-407F-A5C5-FB9855319D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C9B2-F5D1-4D6D-BF8B-F3C34ED19F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CB3E-3866-453C-90F5-3542CD9C47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0BE1-F84E-4F7B-9CED-8ADD8D0B1A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A0C9-6A85-48F3-837A-473B2D9699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6F58-61DE-4D94-B235-D99E9C5FB2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3CBC-298D-4808-AA23-8900D0571F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187E-3884-4B93-8B80-B1D7155FEB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8B6-942E-4B5F-A37A-85D6DE98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6B49-22DC-42A1-B725-847E6E04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02E-740B-4974-BA76-60F31EA9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4C5-4C4B-4B79-BF8B-527FC654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994B-6905-4DD1-A9E0-A03A4E8C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0CE-9D25-4C28-B8C7-DFB3BCCA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7ECD-6F21-4A51-8098-D6F2AAB3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BCC-7323-4107-AE34-7F58E272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7E1-00D7-4E27-A3AF-75B262EB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A42-D5A1-4515-8C03-4FD295FB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5496-B84B-4CA0-8611-C2B66A1C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C81-1B4F-4A0F-ACDC-466D0CF4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3FB7-8E63-447D-92B2-26151CBA19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ato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z at the end for those who need to tak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l (Internal)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erior surface moves toward mid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al (External)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erior surface moves away from mid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rotation"/>
          <p:cNvPicPr/>
          <p:nvPr/>
        </p:nvPicPr>
        <p:blipFill>
          <a:blip r:embed="rId1"/>
          <a:stretch/>
        </p:blipFill>
        <p:spPr>
          <a:xfrm>
            <a:off x="4419720" y="1219320"/>
            <a:ext cx="4363920" cy="5502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2103120"/>
            <a:ext cx="40417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forward on plane parallel to 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nch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backward on plane parallel to 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lawn mower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protract-retract2"/>
          <p:cNvPicPr/>
          <p:nvPr/>
        </p:nvPicPr>
        <p:blipFill>
          <a:blip r:embed="rId1"/>
          <a:stretch/>
        </p:blipFill>
        <p:spPr>
          <a:xfrm>
            <a:off x="4572000" y="1981080"/>
            <a:ext cx="4554360" cy="4167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0280" y="2103120"/>
            <a:ext cx="39686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ward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rior 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ward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ove upw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ove downw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elevation-depression"/>
          <p:cNvPicPr/>
          <p:nvPr/>
        </p:nvPicPr>
        <p:blipFill>
          <a:blip r:embed="rId1"/>
          <a:stretch/>
        </p:blipFill>
        <p:spPr>
          <a:xfrm>
            <a:off x="4572000" y="1600200"/>
            <a:ext cx="4095720" cy="5029200"/>
          </a:xfrm>
          <a:prstGeom prst="rect">
            <a:avLst/>
          </a:prstGeom>
          <a:ln w="0">
            <a:noFill/>
          </a:ln>
        </p:spPr>
      </p:pic>
      <p:sp>
        <p:nvSpPr>
          <p:cNvPr id="88" name="Oval 5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6629400" y="312408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6705720" y="3352680"/>
            <a:ext cx="609480" cy="152640"/>
          </a:xfrm>
          <a:custGeom>
            <a:avLst/>
            <a:gdLst>
              <a:gd name="textAreaLeft" fmla="*/ 106560 w 609480"/>
              <a:gd name="textAreaRight" fmla="*/ 442080 w 60948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5791320" y="3352680"/>
            <a:ext cx="609480" cy="152640"/>
          </a:xfrm>
          <a:custGeom>
            <a:avLst/>
            <a:gdLst>
              <a:gd name="textAreaLeft" fmla="*/ 106560 w 609480"/>
              <a:gd name="textAreaRight" fmla="*/ 442080 w 60948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al Deviation (AB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wrist outwards or away from midlin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iate towards rad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nar Deviation (AD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wrist inwards or towards the midlin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iate towards ul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radial-unlar dev"/>
          <p:cNvPicPr/>
          <p:nvPr/>
        </p:nvPicPr>
        <p:blipFill>
          <a:blip r:embed="rId1"/>
          <a:stretch/>
        </p:blipFill>
        <p:spPr>
          <a:xfrm>
            <a:off x="4343400" y="1828800"/>
            <a:ext cx="4788000" cy="4471920"/>
          </a:xfrm>
          <a:prstGeom prst="rect">
            <a:avLst/>
          </a:prstGeom>
          <a:ln w="0">
            <a:noFill/>
          </a:ln>
        </p:spPr>
      </p:pic>
      <p:sp>
        <p:nvSpPr>
          <p:cNvPr id="95" name="Line 5"/>
          <p:cNvSpPr/>
          <p:nvPr/>
        </p:nvSpPr>
        <p:spPr>
          <a:xfrm flipH="1" flipV="1">
            <a:off x="6705720" y="525744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087680" y="54100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 flipV="1">
            <a:off x="5791320" y="5257440"/>
            <a:ext cx="5331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092200" y="5334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Ul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7668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um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in meaning “aroun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ation of flexion/extension and abduction/ad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circumduction"/>
          <p:cNvPicPr/>
          <p:nvPr/>
        </p:nvPicPr>
        <p:blipFill>
          <a:blip r:embed="rId1"/>
          <a:stretch/>
        </p:blipFill>
        <p:spPr>
          <a:xfrm>
            <a:off x="3908520" y="1828800"/>
            <a:ext cx="5235480" cy="263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s are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gittal Pl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ar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rsi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ments are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rontal Pl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nar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al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ward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wnward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eral flex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ments are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verse Pl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l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ab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ad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nk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0280" y="1600200"/>
            <a:ext cx="3754440" cy="42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um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671480"/>
            <a:ext cx="3608280" cy="388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ar/dorsal 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152360" y="457200"/>
            <a:ext cx="7280280" cy="63244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rectional Terms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(cent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ward or in i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silat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same sid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25440" y="2565000"/>
            <a:ext cx="476100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rnal (periphe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ward or on ex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lat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opposite sid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3200400" y="2286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>
            <a:off x="3200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838080" y="-3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ing a decrease in 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ing an increase in 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flexion"/>
          <p:cNvPicPr/>
          <p:nvPr/>
        </p:nvPicPr>
        <p:blipFill>
          <a:blip r:embed="rId1"/>
          <a:stretch/>
        </p:blipFill>
        <p:spPr>
          <a:xfrm>
            <a:off x="2666880" y="304920"/>
            <a:ext cx="6477120" cy="655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uction (AB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away from midline of the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“take awa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uction (AD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towards the midlin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“ad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hip abd-add"/>
          <p:cNvPicPr/>
          <p:nvPr/>
        </p:nvPicPr>
        <p:blipFill>
          <a:blip r:embed="rId1"/>
          <a:stretch/>
        </p:blipFill>
        <p:spPr>
          <a:xfrm>
            <a:off x="6934320" y="1676520"/>
            <a:ext cx="2095560" cy="2895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shld_abd-add"/>
          <p:cNvPicPr/>
          <p:nvPr/>
        </p:nvPicPr>
        <p:blipFill>
          <a:blip r:embed="rId2"/>
          <a:stretch/>
        </p:blipFill>
        <p:spPr>
          <a:xfrm>
            <a:off x="4297320" y="1676520"/>
            <a:ext cx="1920960" cy="2895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4347360" y="45720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hou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927200" y="4572000"/>
            <a:ext cx="6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7623000" y="61722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9" descr="finger abd-add"/>
          <p:cNvPicPr/>
          <p:nvPr/>
        </p:nvPicPr>
        <p:blipFill>
          <a:blip r:embed="rId3"/>
          <a:stretch/>
        </p:blipFill>
        <p:spPr>
          <a:xfrm>
            <a:off x="5943600" y="4191120"/>
            <a:ext cx="1644480" cy="2468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103120"/>
            <a:ext cx="40417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ting hand/forearm later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d the soup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ting hand/forearm medi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r the soup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pronation-supination"/>
          <p:cNvPicPr/>
          <p:nvPr/>
        </p:nvPicPr>
        <p:blipFill>
          <a:blip r:embed="rId1"/>
          <a:stretch/>
        </p:blipFill>
        <p:spPr>
          <a:xfrm>
            <a:off x="4572000" y="1960560"/>
            <a:ext cx="4156200" cy="4516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0280" y="2103480"/>
            <a:ext cx="396864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ar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toes/foot down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 on tip to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rsi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toes/foot up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t off the gas ped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pf-df"/>
          <p:cNvPicPr/>
          <p:nvPr/>
        </p:nvPicPr>
        <p:blipFill>
          <a:blip r:embed="rId1"/>
          <a:stretch/>
        </p:blipFill>
        <p:spPr>
          <a:xfrm>
            <a:off x="4572000" y="1676520"/>
            <a:ext cx="4203720" cy="4876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0280" y="2103120"/>
            <a:ext cx="39686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ment of sole of foot in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ment of sole of foot out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inv-ever"/>
          <p:cNvPicPr/>
          <p:nvPr/>
        </p:nvPicPr>
        <p:blipFill>
          <a:blip r:embed="rId1"/>
          <a:stretch/>
        </p:blipFill>
        <p:spPr>
          <a:xfrm>
            <a:off x="5562720" y="1219320"/>
            <a:ext cx="2092320" cy="5378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0:29:04Z</dcterms:created>
  <dc:creator>ashansel</dc:creator>
  <dc:description/>
  <dc:language>en-US</dc:language>
  <cp:lastModifiedBy>Andrew S. Hansell</cp:lastModifiedBy>
  <dcterms:modified xsi:type="dcterms:W3CDTF">2013-09-10T11:11:42Z</dcterms:modified>
  <cp:revision>9</cp:revision>
  <dc:subject/>
  <dc:title>Anatomy</dc:title>
</cp:coreProperties>
</file>