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F507-CF93-4F97-90EB-991BD3E2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2EF6-76EC-478F-BD88-8337ABBE0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C5D2-C082-46B1-AAF1-57FC0BB6E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3B9-9C93-4150-88A1-ED916ED11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E79-89E8-44C4-900F-B2FEC0902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879-63C1-43FD-B87E-B231F1FEF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F00-CF93-41F6-B265-34AB14D72F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8B7-A114-4E8F-B974-5D555B319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45E1-7B14-40D7-A442-10AF1350A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847A-E2EE-4309-9AA2-C8D710345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456-69AE-4229-801C-3FA41A5BE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680-EFDB-4DE4-866E-5D0F803BA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A9C-156B-4C7C-B2CE-93DB31F1B0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E1A-ECF5-4BEC-B35C-48FFA08A4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3C2-125D-4216-8537-D95F6C0D6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3DC-7252-4F8B-825F-317DE3F8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52B-A1A6-43C1-8D92-A41FB807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539-C5AD-42BF-91A0-0DE9C497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FCD-510A-4C03-A8F9-54EEEC19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BDA-6BE9-433F-BE2B-25FCCE9A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FCA-01A2-47DB-A700-D240ACE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41C-F896-4E8B-B92F-13DF762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EA3-A5F0-44B5-AE29-68D4A88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555-0406-49FC-ADA8-F163DE3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C01-746D-4DC4-A078-BEB421D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8DC-EC87-4472-BD6D-91DE80C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3A4-51BB-4078-8BEC-2926552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4CF-E389-401D-8007-E36E5EE234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at the end for those who need to t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l (In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toward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(Ex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away from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rotation"/>
          <p:cNvPicPr/>
          <p:nvPr/>
        </p:nvPicPr>
        <p:blipFill>
          <a:blip r:embed="rId1"/>
          <a:stretch/>
        </p:blipFill>
        <p:spPr>
          <a:xfrm>
            <a:off x="4419720" y="1219320"/>
            <a:ext cx="4363920" cy="550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or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back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awn mow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protract-retract2"/>
          <p:cNvPicPr/>
          <p:nvPr/>
        </p:nvPicPr>
        <p:blipFill>
          <a:blip r:embed="rId1"/>
          <a:stretch/>
        </p:blipFill>
        <p:spPr>
          <a:xfrm>
            <a:off x="4572000" y="1981080"/>
            <a:ext cx="4554360" cy="41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up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down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elevation-depression"/>
          <p:cNvPicPr/>
          <p:nvPr/>
        </p:nvPicPr>
        <p:blipFill>
          <a:blip r:embed="rId1"/>
          <a:stretch/>
        </p:blipFill>
        <p:spPr>
          <a:xfrm>
            <a:off x="4572000" y="160020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62940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7057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913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l Devia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outwards or away from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nar Devia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inwards or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radial-unlar dev"/>
          <p:cNvPicPr/>
          <p:nvPr/>
        </p:nvPicPr>
        <p:blipFill>
          <a:blip r:embed="rId1"/>
          <a:stretch/>
        </p:blipFill>
        <p:spPr>
          <a:xfrm>
            <a:off x="4343400" y="1828800"/>
            <a:ext cx="4788000" cy="44719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H="1" flipV="1">
            <a:off x="6705720" y="52574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7680" y="5410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5791320" y="525744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092200" y="5334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66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n meaning “aroun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flexion/extension and abduction/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rcumduction"/>
          <p:cNvPicPr/>
          <p:nvPr/>
        </p:nvPicPr>
        <p:blipFill>
          <a:blip r:embed="rId1"/>
          <a:stretch/>
        </p:blipFill>
        <p:spPr>
          <a:xfrm>
            <a:off x="3908520" y="1828800"/>
            <a:ext cx="52354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gittal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ntal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le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verse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600200"/>
            <a:ext cx="375444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671480"/>
            <a:ext cx="360828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/dorsal 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52360" y="457200"/>
            <a:ext cx="728028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al Term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(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in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i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am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25440" y="2565000"/>
            <a:ext cx="47610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(periph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on ex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opposit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3200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 de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n in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flexion"/>
          <p:cNvPicPr/>
          <p:nvPr/>
        </p:nvPicPr>
        <p:blipFill>
          <a:blip r:embed="rId1"/>
          <a:stretch/>
        </p:blipFill>
        <p:spPr>
          <a:xfrm>
            <a:off x="2666880" y="304920"/>
            <a:ext cx="647712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away from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take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ad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ip abd-add"/>
          <p:cNvPicPr/>
          <p:nvPr/>
        </p:nvPicPr>
        <p:blipFill>
          <a:blip r:embed="rId1"/>
          <a:stretch/>
        </p:blipFill>
        <p:spPr>
          <a:xfrm>
            <a:off x="6934320" y="1676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hld_abd-add"/>
          <p:cNvPicPr/>
          <p:nvPr/>
        </p:nvPicPr>
        <p:blipFill>
          <a:blip r:embed="rId2"/>
          <a:stretch/>
        </p:blipFill>
        <p:spPr>
          <a:xfrm>
            <a:off x="4297320" y="1676520"/>
            <a:ext cx="192096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47360" y="4572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hou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27200" y="457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3000" y="6172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finger abd-add"/>
          <p:cNvPicPr/>
          <p:nvPr/>
        </p:nvPicPr>
        <p:blipFill>
          <a:blip r:embed="rId3"/>
          <a:stretch/>
        </p:blipFill>
        <p:spPr>
          <a:xfrm>
            <a:off x="5943600" y="4191120"/>
            <a:ext cx="1644480" cy="24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la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med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pronation-supination"/>
          <p:cNvPicPr/>
          <p:nvPr/>
        </p:nvPicPr>
        <p:blipFill>
          <a:blip r:embed="rId1"/>
          <a:stretch/>
        </p:blipFill>
        <p:spPr>
          <a:xfrm>
            <a:off x="4572000" y="1960560"/>
            <a:ext cx="4156200" cy="451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2103480"/>
            <a:ext cx="3968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on tip to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off the gas ped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f-df"/>
          <p:cNvPicPr/>
          <p:nvPr/>
        </p:nvPicPr>
        <p:blipFill>
          <a:blip r:embed="rId1"/>
          <a:stretch/>
        </p:blipFill>
        <p:spPr>
          <a:xfrm>
            <a:off x="4572000" y="1676520"/>
            <a:ext cx="4203720" cy="48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out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inv-ever"/>
          <p:cNvPicPr/>
          <p:nvPr/>
        </p:nvPicPr>
        <p:blipFill>
          <a:blip r:embed="rId1"/>
          <a:stretch/>
        </p:blipFill>
        <p:spPr>
          <a:xfrm>
            <a:off x="5562720" y="1219320"/>
            <a:ext cx="20923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29:04Z</dcterms:created>
  <dc:creator>ashansel</dc:creator>
  <dc:description/>
  <dc:language>en-US</dc:language>
  <cp:lastModifiedBy>Andrew S. Hansell</cp:lastModifiedBy>
  <dcterms:modified xsi:type="dcterms:W3CDTF">2013-09-10T11:11:42Z</dcterms:modified>
  <cp:revision>9</cp:revision>
  <dc:subject/>
  <dc:title>Anatomy</dc:title>
</cp:coreProperties>
</file>