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79A-B0E7-42B9-ADE5-AA4A3F44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913-B7B9-44D9-97A2-387720ED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414-1EBA-4C54-90C0-60362F22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577-F6F6-48D7-9158-3679862A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9008-5F94-40A2-977C-B15D0D8B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9A2E-3A6F-4D96-B185-257C8A31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CFCA-8AFE-4DBC-ADBE-D73C2C5C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F8D7-7844-46E3-B4A2-A92BFE19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0465-C850-4641-9E5D-1B45CDC8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A377-6468-4AA4-8AD1-15C68D9A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6BB1-2BDC-44D6-B672-5D4C68D4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5C2-1A23-4439-9138-521EC8F9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B1A1-D5F2-4551-82EB-1EC620D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5CAF-DD8C-479D-8F6D-4404F22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FCF4-6313-41CE-B3FC-DABFC6BC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BC83-CCD0-4C30-BA85-30BD7CB8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DB46-9B96-404F-A887-FEC5582C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3EE-348E-4543-A551-9331ECA8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060-41A0-4C6B-882A-8DC20453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F15-B7CD-430A-BF28-18608CE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EC2-1CF6-46CD-A4AF-806704F6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D83-1EC5-4C1D-AA62-780CFB29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9CF-A572-43A3-B393-65A67127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E8E-190B-409D-8A88-AD3DBFE5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39C1-E8BB-4FE8-A2FD-9FD870CF44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778B-2B81-45AE-B3D6-91AF2137EF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natomical Term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z at the end of the power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ose who have not taken it y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029200" y="1523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mbilic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AN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gluteus max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952880" y="3733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FRONT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90720" y="15238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gluteus maxim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POS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umbilicu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4300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BACK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772400" y="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876920" y="4648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V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0666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DO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3276720" y="609480"/>
            <a:ext cx="990360" cy="60199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505320" y="838080"/>
            <a:ext cx="4572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R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fc7"/>
                </a:solidFill>
                <a:latin typeface="Arial Black"/>
              </a:rPr>
              <a:t>Directional Term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ior and inf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head, resp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Anterior and post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front and back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Medial, lateral,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midline, away from the midli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Proximal and distal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oser to and farther from the origin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ficial and deep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body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0" t="0" r="0" b="5788"/>
          <a:stretch/>
        </p:blipFill>
        <p:spPr>
          <a:xfrm>
            <a:off x="398520" y="533520"/>
            <a:ext cx="8516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0" r="0" b="5934"/>
          <a:stretch/>
        </p:blipFill>
        <p:spPr>
          <a:xfrm>
            <a:off x="152280" y="533520"/>
            <a:ext cx="8745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0" t="0" r="0" b="5032"/>
          <a:stretch/>
        </p:blipFill>
        <p:spPr>
          <a:xfrm>
            <a:off x="404640" y="380880"/>
            <a:ext cx="833292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6527" b="4999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380880" y="533520"/>
            <a:ext cx="419112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gional Te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xial – head, neck, and t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ndicular – appendages or li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regional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69608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Regional Term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2082960" y="1243080"/>
            <a:ext cx="49780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33520" y="1752480"/>
            <a:ext cx="78483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agittal and medi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right and left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idsagittal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– sagittal plane that lies on the mid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rontal or coron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anterior and post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ransverse or horizont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(cross section) – divides the body into superior and inf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3520" y="1317240"/>
            <a:ext cx="72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1752480" y="990720"/>
            <a:ext cx="59198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rcRect l="0" t="0" r="47187" b="2920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7848720" y="137160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848720" y="426708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4952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reference pos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01-03_AnatomPositn_3"/>
          <p:cNvPicPr/>
          <p:nvPr/>
        </p:nvPicPr>
        <p:blipFill>
          <a:blip r:embed="rId1"/>
          <a:srcRect l="35646" t="16668" r="14030" b="14814"/>
          <a:stretch/>
        </p:blipFill>
        <p:spPr>
          <a:xfrm>
            <a:off x="5257800" y="152280"/>
            <a:ext cx="3589200" cy="6324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421520" y="563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rcRect l="50004" t="0" r="0" b="2920"/>
          <a:stretch/>
        </p:blipFill>
        <p:spPr>
          <a:xfrm>
            <a:off x="4952880" y="990720"/>
            <a:ext cx="3132360" cy="5479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4724280" y="1600200"/>
            <a:ext cx="381240" cy="22096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961440" y="616572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5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Pla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80880" y="1760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1276200" y="990720"/>
            <a:ext cx="6591600" cy="5411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1295280" y="62024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reference position that allows for the use of consistent directional termi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descriptions of location are made from within anatomic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s facing forward with palms forward, thumbs facing to the sid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066680" y="533520"/>
            <a:ext cx="7239240" cy="56386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057400" y="27432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Anatomical Termi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555 -0.44393 C -0.43593 -0.4037 -0.41753 -0.36254 -0.39687 -0.32347 C -0.39375 -0.31769 -0.38767 -0.31607 -0.3842 -0.31075 C -0.375 -0.29642 -0.36632 -0.28277 -0.35555 -0.27075 C -0.34687 -0.26104 -0.35434 -0.26798 -0.34774 -0.25803 C -0.33854 -0.24416 -0.32899 -0.23075 -0.31753 -0.21988 C -0.30885 -0.20254 -0.32066 -0.22428 -0.30954 -0.20948 C -0.30468 -0.203 -0.30312 -0.19792 -0.29687 -0.19237 C -0.29288 -0.18428 -0.28767 -0.18243 -0.28264 -0.17549 C -0.27691 -0.16786 -0.275 -0.16208 -0.26666 -0.15861 C -0.25937 -0.15214 -0.25538 -0.14173 -0.2493 -0.13318 C -0.24757 -0.12578 -0.24392 -0.12324 -0.24132 -0.1163 C -0.23489 -0.09873 -0.24566 -0.12231 -0.2368 -0.10358 C -0.23107 -0.07422 -0.24027 -0.04254 -0.2302 -0.0148 C -0.22448 0.03121 -0.23316 -0.03353 -0.22552 0.00832 C -0.22152 0.03075 -0.21944 0.05364 -0.21597 0.07607 C -0.21423 0.08717 -0.20885 0.10775 -0.20816 0.11399 C -0.20434 0.14937 -0.196 0.18451 -0.17951 0.21341 C -0.17187 0.22728 -0.15538 0.23861 -0.14444 0.24717 C -0.12517 0.2622 -0.06909 0.25549 -0.0651 0.25572 C -0.03541 0.2689 -0.00468 0.28023 0.02535 0.29156 C 0.03525 0.29526 0.04688 0.29526 0.05712 0.29804 C 0.06615 0.30035 0.07483 0.30474 0.08386 0.30636 C 0.10191 0.30937 0.12014 0.30867 0.13785 0.31075 C 0.1698 0.3059 0.20157 0.30127 0.23334 0.29595 C 0.24028 0.2948 0.25382 0.29156 0.25382 0.29156 C 0.26042 0.28301 0.26823 0.27769 0.27448 0.26844 C 0.29445 0.23908 0.31302 0.18613 0.32049 0.14798 C 0.3283 0.10798 0.33056 0.05734 0.34445 0.02104 C 0.34532 0.00763 0.34757 -0.00578 0.34757 -0.01942 C 0.34757 -0.06011 0.34688 -0.10081 0.34601 -0.14173 C 0.34462 -0.20578 0.30851 -0.23445 0.2698 -0.26011 C 0.24844 -0.2978 0.23785 -0.3348 0.2 -0.34266 C 0.18716 -0.34196 0.17448 -0.3422 0.16164 -0.34035 C 0.15973 -0.34011 0.15868 -0.33711 0.15712 -0.33618 C 0.15243 -0.33364 0.14757 -0.33202 0.14271 -0.32994 C 0.13698 -0.32763 0.13108 -0.32763 0.12535 -0.32555 C 0.1132 -0.3163 0.10348 -0.30243 0.09028 -0.29595 C 0.08108 -0.28416 0.0698 -0.27907 0.05851 -0.27075 C 0.05799 -0.26983 0.05157 -0.2585 0.0507 -0.25595 C 0.04723 -0.24509 0.04757 -0.23052 0.04115 -0.22196 C 0.03716 -0.2067 0.02292 -0.18474 0.01736 -0.17133 C 0.00921 -0.15191 0.00973 -0.12855 0.00469 -0.10798 C 0.00313 -0.09248 0.00122 -0.08 -0.00329 -0.06566 C 0.00122 -0.04116 0.00157 -0.01318 0.00157 0.01249 L -3.61111E-006 2.77457E-006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90920" y="1143000"/>
            <a:ext cx="434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Sup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971800" y="3733920"/>
            <a:ext cx="358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Inf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743200" y="1371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up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00400" y="4800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nf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90720" y="2514600"/>
            <a:ext cx="7467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TRANSVERSE PLA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834 -2.31214E-007 L 3.33333E-006 -2.31214E-007 E">
                                      <p:cBhvr>
                                        <p:cTn id="4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733920" y="990720"/>
            <a:ext cx="380880" cy="51051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66880" y="304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dy Mid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19720" y="17524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Med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5880" y="36576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d6fc7"/>
                </a:solidFill>
                <a:latin typeface="Garamond"/>
              </a:rPr>
              <a:t>Later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33412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85800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1905120" y="3504960"/>
            <a:ext cx="1676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04920" y="32767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Sagittal</a:t>
            </a:r>
            <a:r>
              <a:rPr b="0" lang="en-US" sz="2400" spc="-1" strike="noStrike">
                <a:solidFill>
                  <a:srgbClr val="99cc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Pl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838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xtremities have a different set of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590920" y="1752480"/>
            <a:ext cx="1218960" cy="121932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895480" y="3124080"/>
            <a:ext cx="685800" cy="23623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 rot="2508000">
            <a:off x="2666520" y="5562720"/>
            <a:ext cx="381240" cy="6858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rot="19894200">
            <a:off x="3352680" y="5562360"/>
            <a:ext cx="381240" cy="60948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981080" y="3962520"/>
            <a:ext cx="83844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676520" y="3124080"/>
            <a:ext cx="228600" cy="9907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581280" y="3962520"/>
            <a:ext cx="99072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 rot="4456200">
            <a:off x="4876560" y="3581280"/>
            <a:ext cx="304920" cy="9144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4191120" y="426672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029200" y="5257800"/>
            <a:ext cx="3657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pper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ROX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5105160" y="320040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02920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IS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324480" y="34290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THE TRUNK or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609480" y="1447920"/>
            <a:ext cx="4267440" cy="441936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1523880" y="2590920"/>
            <a:ext cx="60984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3200400" y="2590920"/>
            <a:ext cx="60948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438280" y="3276720"/>
            <a:ext cx="304920" cy="68580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1371600" y="44197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2438280" y="4495680"/>
            <a:ext cx="1295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3886200" y="2743200"/>
            <a:ext cx="22096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 flipV="1">
            <a:off x="3809520" y="4647960"/>
            <a:ext cx="22100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6172200" y="2133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eyes are </a:t>
            </a:r>
            <a:r>
              <a:rPr b="0" lang="en-US" sz="1800" spc="-1" strike="noStrike">
                <a:solidFill>
                  <a:srgbClr val="008000"/>
                </a:solidFill>
                <a:latin typeface="Garamond"/>
              </a:rPr>
              <a:t>SUPERIO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to the mou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248520" y="43434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mouth is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INFERIO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o the ey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37:15Z</dcterms:created>
  <dc:creator>ashansel</dc:creator>
  <dc:description/>
  <dc:language>en-US</dc:language>
  <cp:lastModifiedBy>ashansel</cp:lastModifiedBy>
  <dcterms:modified xsi:type="dcterms:W3CDTF">2010-09-09T14:39:47Z</dcterms:modified>
  <cp:revision>12</cp:revision>
  <dc:subject/>
  <dc:title>Slide 1</dc:title>
</cp:coreProperties>
</file>