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404-008D-4C40-B1AB-BEF5AC84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90F-09A5-4BF8-8EE5-8CE450E9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91B-6AC1-4D6B-B0D4-37DB3AE9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F2A-25EC-497A-A519-5443E75D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26E-C830-4BB0-B0BB-0BCAA101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16D2-9F31-4FEB-BB9B-2A94798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699F-4FF6-4F22-A13B-67562F88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72AA-B108-4C5E-AC11-799ED905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F409-A458-4463-9E2C-F22E86F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31FD-B3F6-469B-99FC-040B90AC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CFC4-5156-49AB-8D77-D5FF3F6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929-54EB-4A9C-9788-9AC820C6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2A30-A579-48BC-8497-B6D741A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887-864F-4E9B-B96A-59A070B2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726-E5C3-4498-8025-E40BC8F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A2E-A3A9-46D8-A5A9-A82DDAA6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1A31-CF00-4E7D-A78D-4EE683CB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15C-7440-416E-B3A5-188CBA0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AAC-74C8-4741-A662-CBBDC9C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5EB-8F4D-4812-ABC8-DF587FF8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352-7030-4B8B-AB7B-8DA8C36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453-85F4-4ECB-94A2-104674D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D71-8BBA-4AED-93E5-E64AC584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DCE-B6C0-419C-B862-671DE73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BB4-1688-4BD3-96AE-F4B4E0E40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A78-C643-4B43-8528-B86A45A20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natomical Term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z at the end of the power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have not taken it y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02920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mbilic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AN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gluteus max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9528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FRONT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90720" y="1523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luteus maxim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umbilic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BACK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77240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76920" y="4648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V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666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276720" y="609480"/>
            <a:ext cx="990360" cy="60199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505320" y="838080"/>
            <a:ext cx="4572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fc7"/>
                </a:solidFill>
                <a:latin typeface="Arial Black"/>
              </a:rPr>
              <a:t>Directional Term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ior and inf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head, resp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Anterior and post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front and back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Medial, lateral,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midline, away from the mid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Proximal and distal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ser to and farther from the origin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ficial and deep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body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0" t="0" r="0" b="5788"/>
          <a:stretch/>
        </p:blipFill>
        <p:spPr>
          <a:xfrm>
            <a:off x="398520" y="533520"/>
            <a:ext cx="8516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5934"/>
          <a:stretch/>
        </p:blipFill>
        <p:spPr>
          <a:xfrm>
            <a:off x="152280" y="533520"/>
            <a:ext cx="8745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0" b="5032"/>
          <a:stretch/>
        </p:blipFill>
        <p:spPr>
          <a:xfrm>
            <a:off x="404640" y="380880"/>
            <a:ext cx="83329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6527" b="4999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80880" y="533520"/>
            <a:ext cx="41911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gional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ial – head, neck, and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cular – appendages or li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regional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gional Ter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2082960" y="1243080"/>
            <a:ext cx="4978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752480"/>
            <a:ext cx="7848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gittal and medi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right and left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idsagittal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– sagittal plane that lies on the mid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rontal or coron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anterior and post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ransverse or horizont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cross section) – divides the body into superior and inf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3520" y="1317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1752480" y="990720"/>
            <a:ext cx="5919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rcRect l="0" t="0" r="47187" b="292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7848720" y="137160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reference 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1-03_AnatomPositn_3"/>
          <p:cNvPicPr/>
          <p:nvPr/>
        </p:nvPicPr>
        <p:blipFill>
          <a:blip r:embed="rId1"/>
          <a:srcRect l="35646" t="16668" r="14030" b="14814"/>
          <a:stretch/>
        </p:blipFill>
        <p:spPr>
          <a:xfrm>
            <a:off x="5257800" y="152280"/>
            <a:ext cx="3589200" cy="632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421520" y="563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rcRect l="50004" t="0" r="0" b="2920"/>
          <a:stretch/>
        </p:blipFill>
        <p:spPr>
          <a:xfrm>
            <a:off x="4952880" y="990720"/>
            <a:ext cx="3132360" cy="547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4724280" y="1600200"/>
            <a:ext cx="381240" cy="2209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61440" y="6165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Pla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276200" y="990720"/>
            <a:ext cx="6591600" cy="541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295280" y="62024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reference position that allows for the use of consistent directional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escriptions of location are made from within anatom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facing forward with palms forward, thumbs facing to the sid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066680" y="533520"/>
            <a:ext cx="7239240" cy="5638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27432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Anatomical Termi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55 -0.44393 C -0.43593 -0.4037 -0.41753 -0.36254 -0.39687 -0.32347 C -0.39375 -0.31769 -0.38767 -0.31607 -0.3842 -0.31075 C -0.375 -0.29642 -0.36632 -0.28277 -0.35555 -0.27075 C -0.34687 -0.26104 -0.35434 -0.26798 -0.34774 -0.25803 C -0.33854 -0.24416 -0.32899 -0.23075 -0.31753 -0.21988 C -0.30885 -0.20254 -0.32066 -0.22428 -0.30954 -0.20948 C -0.30468 -0.203 -0.30312 -0.19792 -0.29687 -0.19237 C -0.29288 -0.18428 -0.28767 -0.18243 -0.28264 -0.17549 C -0.27691 -0.16786 -0.275 -0.16208 -0.26666 -0.15861 C -0.25937 -0.15214 -0.25538 -0.14173 -0.2493 -0.13318 C -0.24757 -0.12578 -0.24392 -0.12324 -0.24132 -0.1163 C -0.23489 -0.09873 -0.24566 -0.12231 -0.2368 -0.10358 C -0.23107 -0.07422 -0.24027 -0.04254 -0.2302 -0.0148 C -0.22448 0.03121 -0.23316 -0.03353 -0.22552 0.00832 C -0.22152 0.03075 -0.21944 0.05364 -0.21597 0.07607 C -0.21423 0.08717 -0.20885 0.10775 -0.20816 0.11399 C -0.20434 0.14937 -0.196 0.18451 -0.17951 0.21341 C -0.17187 0.22728 -0.15538 0.23861 -0.14444 0.24717 C -0.12517 0.2622 -0.06909 0.25549 -0.0651 0.25572 C -0.03541 0.2689 -0.00468 0.28023 0.02535 0.29156 C 0.03525 0.29526 0.04688 0.29526 0.05712 0.29804 C 0.06615 0.30035 0.07483 0.30474 0.08386 0.30636 C 0.10191 0.30937 0.12014 0.30867 0.13785 0.31075 C 0.1698 0.3059 0.20157 0.30127 0.23334 0.29595 C 0.24028 0.2948 0.25382 0.29156 0.25382 0.29156 C 0.26042 0.28301 0.26823 0.27769 0.27448 0.26844 C 0.29445 0.23908 0.31302 0.18613 0.32049 0.14798 C 0.3283 0.10798 0.33056 0.05734 0.34445 0.02104 C 0.34532 0.00763 0.34757 -0.00578 0.34757 -0.01942 C 0.34757 -0.06011 0.34688 -0.10081 0.34601 -0.14173 C 0.34462 -0.20578 0.30851 -0.23445 0.2698 -0.26011 C 0.24844 -0.2978 0.23785 -0.3348 0.2 -0.34266 C 0.18716 -0.34196 0.17448 -0.3422 0.16164 -0.34035 C 0.15973 -0.34011 0.15868 -0.33711 0.15712 -0.33618 C 0.15243 -0.33364 0.14757 -0.33202 0.14271 -0.32994 C 0.13698 -0.32763 0.13108 -0.32763 0.12535 -0.32555 C 0.1132 -0.3163 0.10348 -0.30243 0.09028 -0.29595 C 0.08108 -0.28416 0.0698 -0.27907 0.05851 -0.27075 C 0.05799 -0.26983 0.05157 -0.2585 0.0507 -0.25595 C 0.04723 -0.24509 0.04757 -0.23052 0.04115 -0.22196 C 0.03716 -0.2067 0.02292 -0.18474 0.01736 -0.17133 C 0.00921 -0.15191 0.00973 -0.12855 0.00469 -0.10798 C 0.00313 -0.09248 0.00122 -0.08 -0.00329 -0.06566 C 0.00122 -0.04116 0.00157 -0.01318 0.00157 0.01249 L -3.61111E-006 2.77457E-006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90920" y="114300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Sup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71800" y="3733920"/>
            <a:ext cx="358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Inf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43200" y="1371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0040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f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251460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RANSVERSE PLA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834 -2.31214E-007 L 3.33333E-006 -2.31214E-007 E">
                                      <p:cBhvr>
                                        <p:cTn id="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33920" y="990720"/>
            <a:ext cx="380880" cy="51051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688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dy Mid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9720" y="17524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Med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5880" y="36576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6fc7"/>
                </a:solidFill>
                <a:latin typeface="Garamond"/>
              </a:rPr>
              <a:t>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3341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580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1905120" y="3504960"/>
            <a:ext cx="1676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04920" y="32767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Sagittal</a:t>
            </a:r>
            <a:r>
              <a:rPr b="0" lang="en-US" sz="24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Pl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838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xtremities have a different set of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590920" y="1752480"/>
            <a:ext cx="1218960" cy="121932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95480" y="3124080"/>
            <a:ext cx="685800" cy="23623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 rot="2508000">
            <a:off x="2666520" y="5562720"/>
            <a:ext cx="381240" cy="6858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19894200">
            <a:off x="3352680" y="5562360"/>
            <a:ext cx="381240" cy="60948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81080" y="3962520"/>
            <a:ext cx="83844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676520" y="3124080"/>
            <a:ext cx="228600" cy="9907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3962520"/>
            <a:ext cx="99072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rot="4456200">
            <a:off x="4876560" y="3581280"/>
            <a:ext cx="304920" cy="9144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4191120" y="426672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29200" y="5257800"/>
            <a:ext cx="365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ROX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5105160" y="320040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02920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I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324480" y="34290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THE TRUNK or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1447920"/>
            <a:ext cx="4267440" cy="441936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1523880" y="2590920"/>
            <a:ext cx="60984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200400" y="2590920"/>
            <a:ext cx="60948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438280" y="3276720"/>
            <a:ext cx="304920" cy="68580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371600" y="44197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2438280" y="44956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886200" y="274320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809520" y="464796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7220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eyes are </a:t>
            </a:r>
            <a:r>
              <a:rPr b="0" lang="en-US" sz="1800" spc="-1" strike="noStrike">
                <a:solidFill>
                  <a:srgbClr val="008000"/>
                </a:solidFill>
                <a:latin typeface="Garamond"/>
              </a:rPr>
              <a:t>SUPERIO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to the m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85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uth is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INFERIO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 the e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37:15Z</dcterms:created>
  <dc:creator>ashansel</dc:creator>
  <dc:description/>
  <dc:language>en-US</dc:language>
  <cp:lastModifiedBy>ashansel</cp:lastModifiedBy>
  <dcterms:modified xsi:type="dcterms:W3CDTF">2010-09-09T14:39:47Z</dcterms:modified>
  <cp:revision>12</cp:revision>
  <dc:subject/>
  <dc:title>Slide 1</dc:title>
</cp:coreProperties>
</file>