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1D8-3081-478D-BFC8-1E4E87AF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A1F9-DCD5-4585-A17D-97F08D6D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127-6310-4E68-958A-D06C926F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DC23-3529-4189-82FB-E949A433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DF61-46A5-4072-9743-5D69A1FE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728B-1D90-4901-8B62-9CE6B47B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7BB8-1AD6-4EB6-9845-27E272F5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E68F-6AD2-4BEC-9CC4-41FCD2DD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F0E7-AE08-4721-80D8-F687B543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8A62-A56F-4AEE-8155-CCC02375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F333-4951-45C7-88D6-CD3F807D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5ED-124B-4EB4-8818-200ACE86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A531-7DB0-4E7F-9878-551B7129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45B2-2DAA-4CEF-9D24-503A6F70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1732-C3EE-426B-B077-1378A9D6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9BE1-ECE7-4183-913E-DC23D819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41C0-CF24-4CFF-96E9-20BCFA70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7E7-F4C5-476F-A3DB-4CD28731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476-6346-4E53-8466-66956A60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A50-9B7A-40CC-AB4A-E0FA854E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99CD-136E-49A9-91C0-FA3589A0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FD7-986F-4A5B-AB7A-814DE7AF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D960-83B0-4157-B4FC-1A44B8ED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65A-301B-4EA8-8AEF-DE626D56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0D10-2CD3-4300-9A6D-6A5461AEDF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0906-5A8A-4BE9-9923-FE51FF5BD6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2209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natomical Term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z at the end of the powerpo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those who have not taken it y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029200" y="15238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umbilicus is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ANTERIO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the gluteus maxim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952880" y="3733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 FRONT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990720" y="152388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gluteus maximus is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POSTERIO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the umbilicu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143000" y="3809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 BACK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7772400" y="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O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876920" y="4648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so called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VENT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0666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so called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DOR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3276720" y="609480"/>
            <a:ext cx="990360" cy="601992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3505320" y="838080"/>
            <a:ext cx="45720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R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d6fc7"/>
                </a:solidFill>
                <a:latin typeface="Arial Black"/>
              </a:rPr>
              <a:t>Directional Term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Superior and inferior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ward and away from the head, respectiv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Anterior and posterior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ward the front and back of the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Medial, lateral,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ward the midline, away from the midlin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Proximal and distal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oser to and farther from the origin of the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Superficial and deep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ward and away from the body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rcRect l="0" t="0" r="0" b="5788"/>
          <a:stretch/>
        </p:blipFill>
        <p:spPr>
          <a:xfrm>
            <a:off x="398520" y="533520"/>
            <a:ext cx="85168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rcRect l="0" t="0" r="0" b="5934"/>
          <a:stretch/>
        </p:blipFill>
        <p:spPr>
          <a:xfrm>
            <a:off x="152280" y="533520"/>
            <a:ext cx="87454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rcRect l="0" t="0" r="0" b="5032"/>
          <a:stretch/>
        </p:blipFill>
        <p:spPr>
          <a:xfrm>
            <a:off x="404640" y="380880"/>
            <a:ext cx="833292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rcRect l="0" t="0" r="6527" b="4999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380880" y="533520"/>
            <a:ext cx="419112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gional Te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xial – head, neck, and tr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ndicular – appendages or lim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regional termi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1294920"/>
            <a:ext cx="769608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Regional Term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rcRect l="0" t="0" r="0" b="4999"/>
          <a:stretch/>
        </p:blipFill>
        <p:spPr>
          <a:xfrm>
            <a:off x="2082960" y="1243080"/>
            <a:ext cx="497808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Body Plan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533520" y="1752480"/>
            <a:ext cx="784836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agittal and medial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– divides the body into right and left p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idsagittal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– sagittal plane that lies on the midl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rontal or coronal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– divides the body into anterior and posterior p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ransverse or horizontal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(cross section) – divides the body into superior and inferior p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3520" y="1317240"/>
            <a:ext cx="72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Body Plan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0" t="0" r="0" b="4999"/>
          <a:stretch/>
        </p:blipFill>
        <p:spPr>
          <a:xfrm>
            <a:off x="1752480" y="990720"/>
            <a:ext cx="591984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ody Landmar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Verdana"/>
              </a:rPr>
              <a:t>Slide 1.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80880" y="1760400"/>
            <a:ext cx="8245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1"/>
          <a:srcRect l="0" t="0" r="47187" b="2920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0"/>
          <p:cNvSpPr/>
          <p:nvPr/>
        </p:nvSpPr>
        <p:spPr>
          <a:xfrm>
            <a:off x="7848720" y="1371600"/>
            <a:ext cx="304560" cy="304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7848720" y="4267080"/>
            <a:ext cx="304560" cy="304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4952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he Anatomical Posi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38102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ndard reference pos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01-03_AnatomPositn_3"/>
          <p:cNvPicPr/>
          <p:nvPr/>
        </p:nvPicPr>
        <p:blipFill>
          <a:blip r:embed="rId1"/>
          <a:srcRect l="35646" t="16668" r="14030" b="14814"/>
          <a:stretch/>
        </p:blipFill>
        <p:spPr>
          <a:xfrm>
            <a:off x="5257800" y="152280"/>
            <a:ext cx="3589200" cy="6324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421520" y="563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ody Landmar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Verdana"/>
              </a:rPr>
              <a:t>Slide 1.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80880" y="1760400"/>
            <a:ext cx="8245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s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rcRect l="50004" t="0" r="0" b="2920"/>
          <a:stretch/>
        </p:blipFill>
        <p:spPr>
          <a:xfrm>
            <a:off x="4952880" y="990720"/>
            <a:ext cx="3132360" cy="54799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9"/>
          <p:cNvSpPr/>
          <p:nvPr/>
        </p:nvSpPr>
        <p:spPr>
          <a:xfrm>
            <a:off x="4724280" y="1600200"/>
            <a:ext cx="381240" cy="22096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961440" y="616572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1.5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ody Pla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Verdana"/>
              </a:rPr>
              <a:t>Slide 1.2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80880" y="176040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1276200" y="990720"/>
            <a:ext cx="6591600" cy="54115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9"/>
          <p:cNvSpPr/>
          <p:nvPr/>
        </p:nvSpPr>
        <p:spPr>
          <a:xfrm>
            <a:off x="1295280" y="62024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1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natomical Posi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reference position that allows for the use of consistent directional termino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descriptions of location are made from within anatomical 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 is facing forward with palms forward, thumbs facing to the sid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066680" y="533520"/>
            <a:ext cx="7239240" cy="56386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057400" y="274320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Garamond"/>
              </a:rPr>
              <a:t>Anatomical Termin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555 -0.44393 C -0.43593 -0.4037 -0.41753 -0.36254 -0.39687 -0.32347 C -0.39375 -0.31769 -0.38767 -0.31607 -0.3842 -0.31075 C -0.375 -0.29642 -0.36632 -0.28277 -0.35555 -0.27075 C -0.34687 -0.26104 -0.35434 -0.26798 -0.34774 -0.25803 C -0.33854 -0.24416 -0.32899 -0.23075 -0.31753 -0.21988 C -0.30885 -0.20254 -0.32066 -0.22428 -0.30954 -0.20948 C -0.30468 -0.203 -0.30312 -0.19792 -0.29687 -0.19237 C -0.29288 -0.18428 -0.28767 -0.18243 -0.28264 -0.17549 C -0.27691 -0.16786 -0.275 -0.16208 -0.26666 -0.15861 C -0.25937 -0.15214 -0.25538 -0.14173 -0.2493 -0.13318 C -0.24757 -0.12578 -0.24392 -0.12324 -0.24132 -0.1163 C -0.23489 -0.09873 -0.24566 -0.12231 -0.2368 -0.10358 C -0.23107 -0.07422 -0.24027 -0.04254 -0.2302 -0.0148 C -0.22448 0.03121 -0.23316 -0.03353 -0.22552 0.00832 C -0.22152 0.03075 -0.21944 0.05364 -0.21597 0.07607 C -0.21423 0.08717 -0.20885 0.10775 -0.20816 0.11399 C -0.20434 0.14937 -0.196 0.18451 -0.17951 0.21341 C -0.17187 0.22728 -0.15538 0.23861 -0.14444 0.24717 C -0.12517 0.2622 -0.06909 0.25549 -0.0651 0.25572 C -0.03541 0.2689 -0.00468 0.28023 0.02535 0.29156 C 0.03525 0.29526 0.04688 0.29526 0.05712 0.29804 C 0.06615 0.30035 0.07483 0.30474 0.08386 0.30636 C 0.10191 0.30937 0.12014 0.30867 0.13785 0.31075 C 0.1698 0.3059 0.20157 0.30127 0.23334 0.29595 C 0.24028 0.2948 0.25382 0.29156 0.25382 0.29156 C 0.26042 0.28301 0.26823 0.27769 0.27448 0.26844 C 0.29445 0.23908 0.31302 0.18613 0.32049 0.14798 C 0.3283 0.10798 0.33056 0.05734 0.34445 0.02104 C 0.34532 0.00763 0.34757 -0.00578 0.34757 -0.01942 C 0.34757 -0.06011 0.34688 -0.10081 0.34601 -0.14173 C 0.34462 -0.20578 0.30851 -0.23445 0.2698 -0.26011 C 0.24844 -0.2978 0.23785 -0.3348 0.2 -0.34266 C 0.18716 -0.34196 0.17448 -0.3422 0.16164 -0.34035 C 0.15973 -0.34011 0.15868 -0.33711 0.15712 -0.33618 C 0.15243 -0.33364 0.14757 -0.33202 0.14271 -0.32994 C 0.13698 -0.32763 0.13108 -0.32763 0.12535 -0.32555 C 0.1132 -0.3163 0.10348 -0.30243 0.09028 -0.29595 C 0.08108 -0.28416 0.0698 -0.27907 0.05851 -0.27075 C 0.05799 -0.26983 0.05157 -0.2585 0.0507 -0.25595 C 0.04723 -0.24509 0.04757 -0.23052 0.04115 -0.22196 C 0.03716 -0.2067 0.02292 -0.18474 0.01736 -0.17133 C 0.00921 -0.15191 0.00973 -0.12855 0.00469 -0.10798 C 0.00313 -0.09248 0.00122 -0.08 -0.00329 -0.06566 C 0.00122 -0.04116 0.00157 -0.01318 0.00157 0.01249 L -3.61111E-006 2.77457E-006 E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590920" y="1143000"/>
            <a:ext cx="4343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Garamond"/>
              </a:rPr>
              <a:t>Superio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971800" y="3733920"/>
            <a:ext cx="3581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Garamond"/>
              </a:rPr>
              <a:t>Inferio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743200" y="1371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Superi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200400" y="48006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Inferi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990720" y="2514600"/>
            <a:ext cx="74674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a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aramond"/>
              </a:rPr>
              <a:t>TRANSVERSE PLA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0834 -2.31214E-007 L 3.33333E-006 -2.31214E-007 E">
                                      <p:cBhvr>
                                        <p:cTn id="46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733920" y="990720"/>
            <a:ext cx="380880" cy="510516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666880" y="304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ody Mid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419720" y="175248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Medi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095880" y="36576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d6fc7"/>
                </a:solidFill>
                <a:latin typeface="Garamond"/>
              </a:rPr>
              <a:t>Later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334120" y="1143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858000" y="4572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1905120" y="3504960"/>
            <a:ext cx="16761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04920" y="32767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Garamond"/>
              </a:rPr>
              <a:t>Sagittal</a:t>
            </a:r>
            <a:r>
              <a:rPr b="0" lang="en-US" sz="2400" spc="-1" strike="noStrike">
                <a:solidFill>
                  <a:srgbClr val="99cc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Garamond"/>
              </a:rPr>
              <a:t>Pla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28600" y="838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Extremities have a different set of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2590920" y="1752480"/>
            <a:ext cx="1218960" cy="121932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895480" y="3124080"/>
            <a:ext cx="685800" cy="236232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 rot="2508000">
            <a:off x="2666520" y="5562720"/>
            <a:ext cx="381240" cy="68580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 rot="19894200">
            <a:off x="3352680" y="5562360"/>
            <a:ext cx="381240" cy="60948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981080" y="3962520"/>
            <a:ext cx="838440" cy="30456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1676520" y="3124080"/>
            <a:ext cx="228600" cy="99072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3581280" y="3962520"/>
            <a:ext cx="990720" cy="30456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 rot="4456200">
            <a:off x="4876560" y="3581280"/>
            <a:ext cx="304920" cy="91440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 flipV="1">
            <a:off x="4191120" y="4266720"/>
            <a:ext cx="83808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029200" y="5257800"/>
            <a:ext cx="3657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upper arm i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PROXI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>
            <a:off x="5105160" y="320040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5029200" y="2590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arm i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DIS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6324480" y="34290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THE TRUNK or MIDLINE OF THE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2"/>
          <p:cNvSpPr/>
          <p:nvPr/>
        </p:nvSpPr>
        <p:spPr>
          <a:xfrm>
            <a:off x="609480" y="1447920"/>
            <a:ext cx="4267440" cy="441936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1523880" y="2590920"/>
            <a:ext cx="609840" cy="60948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3200400" y="2590920"/>
            <a:ext cx="609480" cy="60948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438280" y="3276720"/>
            <a:ext cx="304920" cy="68580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1371600" y="4419720"/>
            <a:ext cx="10666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 flipV="1">
            <a:off x="2438280" y="4495680"/>
            <a:ext cx="12956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3886200" y="2743200"/>
            <a:ext cx="22096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 flipH="1" flipV="1">
            <a:off x="3809520" y="4647960"/>
            <a:ext cx="221004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6172200" y="2133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eyes are </a:t>
            </a:r>
            <a:r>
              <a:rPr b="0" lang="en-US" sz="1800" spc="-1" strike="noStrike">
                <a:solidFill>
                  <a:srgbClr val="008000"/>
                </a:solidFill>
                <a:latin typeface="Garamond"/>
              </a:rPr>
              <a:t>SUPERIO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to the mou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248520" y="43434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mouth is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INFERIOR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o the ey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37:15Z</dcterms:created>
  <dc:creator>ashansel</dc:creator>
  <dc:description/>
  <dc:language>en-US</dc:language>
  <cp:lastModifiedBy>ashansel</cp:lastModifiedBy>
  <dcterms:modified xsi:type="dcterms:W3CDTF">2010-09-09T14:39:47Z</dcterms:modified>
  <cp:revision>12</cp:revision>
  <dc:subject/>
  <dc:title>Slide 1</dc:title>
</cp:coreProperties>
</file>